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C572-1311-4730-BD64-748CCF4C1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64D9-C13B-4742-BD18-7D39A44CA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457A9E-A1E4-4D9B-A5CA-51FE4ECD2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DE198C-791A-4D03-916B-0F61EEE9E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7BA6B2-2C59-4A1A-8001-57B68611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A027F1-E14F-4F3C-88E8-E8D2D0B4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36E945-65C7-4229-9D81-26C6B647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9DE2C0-D716-4437-B71B-27E941DB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B4E8B5-D6F2-4E7B-A459-5547FDD23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5E0B8A-58DC-4F99-90AB-F0B098243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DF841F-3611-4914-A945-0E3C2B9F1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A1FFBA-48A1-45B7-B547-80BBD1BB0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3E8D-94C7-4456-A145-93C75003A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3887A8-BF9D-4399-B593-3F371736F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2EBCD6-F3E4-40B8-9CC5-A72017928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7BA68D-E88C-4FAE-B70C-EF7BA1C35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4BA41B-C362-4860-B703-5C6860C2C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7AFD36-788B-469B-9C7E-E28197E41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6E7969-EDBB-4EF0-BBDF-5FCD4FB4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9A3EC0-C3A4-4ECC-9D99-B50C21E2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A5A327-DACC-4B79-887E-B3C4D06B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9A8BCA-F147-4A0F-A430-18EFCBEA0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E8D794-65FF-4597-A6E8-23AF7756B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646F-1007-4BF4-BC0C-B0FA47248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846688-7695-4B73-8ADD-D7B3F850E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7DFB01-4466-457B-B0DD-7F3BF312B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E8AEC4-66C1-4FBB-914A-0DAE2F1CE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CD9E58-FDD0-4EE9-9348-9F672DEB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ED2DCD-142E-45A8-9C5A-57D424E54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09D1EB-F2EE-49E1-B365-19FFABF74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778B29-A941-4F5F-869E-D4D60F0B6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EDC8F5-9424-4564-946F-C00CEEC7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74EFF7-F442-442B-AEFF-819521B8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5DB222-7586-4E42-9043-44DC0871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B8383-6A7B-4D72-8826-3D729177F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431BD8-4ED4-4901-B478-AD4D5C4FC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EB940C-1AD9-4C7E-B324-A9249B034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7B1FC8-1845-4324-96DB-68C6B0ADF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5FCD0E-4297-4371-BA44-6B9D05633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5336A2-8F34-4A9C-80A8-744D8D4F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A2F62B-D28E-4161-9BC0-BE7B3F77D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50FE3D-4DF0-4DF1-8838-37E0B3680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B310EB-EF24-4262-A167-11E2F81A5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EF88E7-DEDB-4F91-8264-385EE86A8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457AC0-08C4-4EA3-87FC-AA50DFE3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40E87-9F33-4244-8905-74E89B217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646A17-2E4A-49C1-AF82-FA0254C7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E8412F-CE14-4AFD-8416-11B03F25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71DB1C-5542-4D2D-99FE-AF517DCFA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E2B134-B289-4E9F-93A1-64BDB1CDF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81A9F7-C68C-40D7-B390-A22F41E08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51398A-5979-45C6-A3F8-F59FF3951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A6F7E6-434F-4F76-B853-ADA31EFC8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9724FE-C355-404B-9495-97A8512B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D12EB5-7EF8-4924-9D06-9F2F6AE2A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91DCC3-02D7-4680-B24F-FE0E5C49E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3D78A-EAB4-4EFF-8ACF-FCCC0B1F7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4FBB1B-F243-4A7E-AD19-5F0C61BC0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BF6999-5CEC-4ABC-985E-733C08E3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748874-DC69-44A4-B172-E10029B4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318D81-EE3C-4D2B-AE88-6899A5AC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04BFE8-1ABC-4ADB-9046-F0C292B46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8FA7FC-82CE-474D-90CF-830616D1F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E58679-537D-4642-8BD9-1EF813E5E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B1C7D-1179-4D7D-8240-FB9F1786C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A4769-6EFD-47FC-8940-583B12A2B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88E84-AAA2-4234-A460-53C47F603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F11BF-5008-44F6-8671-1885BB91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5442-3CE0-4B9E-91E5-6FB361029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3A249-122D-45E8-B81A-86D801FA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F45B8-94B1-4203-AA91-A11B57AC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DB296-56F5-453B-8CB8-D87640B6A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EE206-2EBB-4A21-AC2A-B6049B3D9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AEB61-7CEA-4144-97B3-9678D4452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0E446-2A23-48C8-B0EF-8679B2154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8CFAC-41F8-4151-8F98-BC4805EFE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877CB-1707-498F-B920-4F50BD085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9D586-223B-4917-AB54-C8517BD98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A0345-E82E-42A5-932F-660C8A927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4C60-A1A7-467D-8FF6-6B07ECF84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B7C7B-F3BF-4494-AEF6-6D16DB2C3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1E7BD-50DB-4852-9D6F-040EC684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655CA-15E4-4F00-9640-3788090A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AA0CF-AE81-42AE-9D54-2B41E161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7B72A-59B1-4C60-BAE4-BBA55AD4A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FE86F-D477-4A70-B690-0BD401E5E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5A04B-1A53-423A-AF68-892B5F3E3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E05A2-7428-440B-8B99-EBD4410AF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AA85F-8449-4D57-8DC0-8E0B655A8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C9946-B976-46A1-AC12-F9F245BD1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F135-FD8B-44B4-853C-34B2EFB52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9990D-C432-49BF-ABC8-B80668229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95D6E-3B34-44E6-A45A-D86319DA5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C26AE-ED2D-41AE-A554-6825F152A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5F212-FB85-40D1-8512-EC56A0A3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6F433-04CC-420F-84EC-23CF7B8E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A87F4-4B84-4E3A-96D0-2E81AE61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4753E-404D-4A35-BF57-61486DFED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A9338-8B5F-41EA-99AA-AFC04D0C9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19E26-66A6-4D13-8AA8-39CBB27DD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632EF-DEF5-49D6-97C5-5B7C06D49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4688-7034-476E-A973-F9F86ABDF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0A8FB-A421-494F-9E53-629A58266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CC790-CC0B-4D6A-BBA8-5FA219D04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9A6B2-B07B-40F1-B74B-9498957F3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FBA20-DBB8-432A-8417-EA88A66CA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EAD0E-3714-4205-8856-89E4414DF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A45A7-77AE-439C-98E0-070C2188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5EC5D-6CA6-4A6E-9116-CC0CF4D5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52015-0E0F-437F-9DD2-5D3A5365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3BB34-B2D0-4AFA-B416-A02A57EF8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B1F82-6B52-46EF-A75D-DDDC5E6F7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D6B2-F6E3-4D67-B25F-33D6E6535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DFDB6-7A0D-4E93-B631-7CF7F7EF6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8AB34-7AAD-428C-9299-32098A1A0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DEE0D0-DA6A-4625-8E8A-5B11C3836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16D21-3CB2-45B8-8F3B-B39E9C4A7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410E1-6725-4A4A-8CAD-4FABD275F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07461-A2CD-458A-86B6-E23BD4E98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DEBCC5-FBB8-43C3-A36F-307677B23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8ACCB-8A8B-4FC9-A24B-8999700E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9C127-DB1A-4383-877A-F4F0FEB6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0DF09-9C83-4E1B-83F1-D75C5B87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9545-97EE-4F38-82BF-31F5BD03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AF0B1-39EB-44F1-8453-72D5E7310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A174F-E479-4C4A-AE7F-F6C34AA45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66B5D-FC88-4F8F-8376-F2483A1D1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AFFCD-0083-467A-AC3F-F1D35857C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B7A56-4186-4FB8-B03D-53BAADA75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B4811-A45F-40C8-9D33-E59C40727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13736F-4C70-409E-90E3-890DB9B7A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A7C0B-13FD-4155-BBC5-7D47A4188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F837A-4381-4375-A9EA-ADA0B3964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C4271-B228-4177-9F58-25B35205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F9D3-3487-4AF2-B5E4-689B7CEF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1617F5-D05B-449E-B08C-AE6422E7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4D11C0-CBE7-4382-8971-A19F26DD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EF35DE-2968-46C8-A342-8CD938F42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17E0A-EEF3-4152-986D-FA3815935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52965-2852-4ADB-AD7A-C98F2A11F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3429E3-8E23-479F-8F53-F6B254554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D8F86B-0B3F-4DDA-A632-19FE4C278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82BFDD-93B2-406E-BB8E-B12B68B60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80A501-EA9D-4B4C-BEB0-831B11AB0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F4D751-A16A-4047-938E-381BBB6B7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EBC4-C4E2-4186-8D5C-1E8D4AFA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DF585A-042D-478E-9DEE-F33E772BC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5193DD-2FAC-4D19-B1C0-6D3AB695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5CBA39-AC6B-4A50-99A5-5D293C1B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58CFA8-E721-4344-80E6-B565B8E9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B47195-0851-43C2-9E30-EE28A2FA6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5062A8-4754-403D-9412-6923C2142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41B4F9-F36F-4A4A-BA86-551D766C1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D08479-16B7-44D7-A7AD-174472E33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79B15E-0B60-4B14-AF35-E0A4D6B00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5AABFC-87B8-487B-B892-D24015D2F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F185C-34D6-4504-8753-B71E1F0BBA18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07E0E-A11A-4D2A-9883-829808AE215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144E-A7C5-46D2-ABB7-F757C794DCA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C45E5-02FA-4BDA-97A3-5CD2F3BDD85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484DB-01C7-40DC-BACB-25A8146AA4C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C4E1A-CAF0-4F3F-9E1C-19096185C92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5CCE0-6A95-4FE1-8E47-C47269337DE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844F1-3820-4BE3-A708-2692ED43157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D611E-A565-4B5D-8E37-C90093FB52E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1BC59-59D7-47D9-BA83-BF9CE1BAC01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12836-E2EB-49C4-8676-F37E959D619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75481-A523-484C-8DD7-45E4A78B60C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1EFB6-6416-4027-9E3B-AFFAF13B6F9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3 Rectángulo"/>
          <p:cNvSpPr/>
          <p:nvPr/>
        </p:nvSpPr>
        <p:spPr>
          <a:xfrm>
            <a:off x="539640" y="549360"/>
            <a:ext cx="806472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Bolilla 5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Metabolismo de los lípid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- </a:t>
            </a:r>
            <a:r>
              <a:rPr b="1" lang="es-AR" sz="28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Digestión y absorción de lípid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- Transporte de lípido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- Metabolismo del colesterol. Regulación molecula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- Degradación y biosíntesis de los lípidos. Cuerpos cetónico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96000" cy="11430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Esquema General de la Digestión Lipídic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Cuadro de texto 5"/>
          <p:cNvSpPr/>
          <p:nvPr/>
        </p:nvSpPr>
        <p:spPr>
          <a:xfrm>
            <a:off x="539640" y="1700280"/>
            <a:ext cx="7848720" cy="116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LIPIDOS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: Triglicéridos, Fosfolípidos y Colester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Vitaminas liposolubles (A, D, E, K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Cuadro de texto 6"/>
          <p:cNvSpPr/>
          <p:nvPr/>
        </p:nvSpPr>
        <p:spPr>
          <a:xfrm>
            <a:off x="3276720" y="3284640"/>
            <a:ext cx="244764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LIPOLI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Cuadro de texto 7"/>
          <p:cNvSpPr/>
          <p:nvPr/>
        </p:nvSpPr>
        <p:spPr>
          <a:xfrm>
            <a:off x="3059280" y="5589720"/>
            <a:ext cx="280800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ABSORC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Línea 8"/>
          <p:cNvSpPr/>
          <p:nvPr/>
        </p:nvSpPr>
        <p:spPr>
          <a:xfrm>
            <a:off x="4572000" y="3933720"/>
            <a:ext cx="0" cy="1366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Cuadro de texto 9"/>
          <p:cNvSpPr/>
          <p:nvPr/>
        </p:nvSpPr>
        <p:spPr>
          <a:xfrm>
            <a:off x="6012000" y="3579840"/>
            <a:ext cx="3024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Glicer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onoacilglicéri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Ácidos grasos de cadena media y cor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Elipse 10"/>
          <p:cNvSpPr/>
          <p:nvPr/>
        </p:nvSpPr>
        <p:spPr>
          <a:xfrm>
            <a:off x="468360" y="3284640"/>
            <a:ext cx="1727280" cy="11523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Enzim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Digestiv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Elipse 11"/>
          <p:cNvSpPr/>
          <p:nvPr/>
        </p:nvSpPr>
        <p:spPr>
          <a:xfrm>
            <a:off x="468360" y="4941720"/>
            <a:ext cx="1727280" cy="115272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Sal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Bilia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23640" y="1980720"/>
            <a:ext cx="8569080" cy="44960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BOC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Lipasa salival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poca activ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STÓMAG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Lipasa Gástrica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importante en niñ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074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NTESTINO DELG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cretin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Secreción de electrolitos y  líquidos  pancreá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lecistoquinin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ntracción Vesícula biliar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BIL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NCREAS            Secreción de Enzim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Elipse 1028"/>
          <p:cNvSpPr/>
          <p:nvPr/>
        </p:nvSpPr>
        <p:spPr>
          <a:xfrm>
            <a:off x="468360" y="5229360"/>
            <a:ext cx="1152360" cy="549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int por ce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uod y yeyun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7" name="Grupo 1031"/>
          <p:cNvGrpSpPr/>
          <p:nvPr/>
        </p:nvGrpSpPr>
        <p:grpSpPr>
          <a:xfrm>
            <a:off x="4140360" y="3716280"/>
            <a:ext cx="574560" cy="792000"/>
            <a:chOff x="4140360" y="3716280"/>
            <a:chExt cx="574560" cy="792000"/>
          </a:xfrm>
        </p:grpSpPr>
        <p:sp>
          <p:nvSpPr>
            <p:cNvPr id="558" name="Línea 6"/>
            <p:cNvSpPr/>
            <p:nvPr/>
          </p:nvSpPr>
          <p:spPr>
            <a:xfrm flipV="1">
              <a:off x="4140360" y="3716280"/>
              <a:ext cx="502920" cy="16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Línea 7"/>
            <p:cNvSpPr/>
            <p:nvPr/>
          </p:nvSpPr>
          <p:spPr>
            <a:xfrm>
              <a:off x="4211640" y="4219560"/>
              <a:ext cx="50328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0" name="Línea 8"/>
          <p:cNvSpPr/>
          <p:nvPr/>
        </p:nvSpPr>
        <p:spPr>
          <a:xfrm>
            <a:off x="2771640" y="595008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Línea 9"/>
          <p:cNvSpPr/>
          <p:nvPr/>
        </p:nvSpPr>
        <p:spPr>
          <a:xfrm>
            <a:off x="1908000" y="5156280"/>
            <a:ext cx="57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Línea 10"/>
          <p:cNvSpPr/>
          <p:nvPr/>
        </p:nvSpPr>
        <p:spPr>
          <a:xfrm>
            <a:off x="6516720" y="587376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Línea 1032"/>
          <p:cNvSpPr/>
          <p:nvPr/>
        </p:nvSpPr>
        <p:spPr>
          <a:xfrm>
            <a:off x="5292720" y="6308640"/>
            <a:ext cx="550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Línea 1033"/>
          <p:cNvSpPr/>
          <p:nvPr/>
        </p:nvSpPr>
        <p:spPr>
          <a:xfrm>
            <a:off x="2700360" y="6093000"/>
            <a:ext cx="64764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Cuadro de texto 1036"/>
          <p:cNvSpPr/>
          <p:nvPr/>
        </p:nvSpPr>
        <p:spPr>
          <a:xfrm>
            <a:off x="4788000" y="3284640"/>
            <a:ext cx="187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ipasa Pancreát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Cuadro de texto 1038"/>
          <p:cNvSpPr/>
          <p:nvPr/>
        </p:nvSpPr>
        <p:spPr>
          <a:xfrm>
            <a:off x="4859280" y="4365720"/>
            <a:ext cx="18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ales bilia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8" name="Imagen 2" descr=""/>
          <p:cNvPicPr/>
          <p:nvPr/>
        </p:nvPicPr>
        <p:blipFill>
          <a:blip r:embed="rId2"/>
          <a:stretch/>
        </p:blipFill>
        <p:spPr>
          <a:xfrm>
            <a:off x="681120" y="549360"/>
            <a:ext cx="792468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Arial Rounded MT Bold"/>
              </a:rPr>
              <a:t>Función de las sales bilia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5068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 Rounded MT Bold"/>
              </a:rPr>
              <a:t>Actúan como detergen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 Rounded MT Bold"/>
              </a:rPr>
              <a:t>Disminuyen la tensión superficial</a:t>
            </a:r>
            <a:r>
              <a:rPr b="0" lang="es-AR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AR" sz="2600" spc="-1" strike="noStrike">
                <a:solidFill>
                  <a:srgbClr val="000000"/>
                </a:solidFill>
                <a:latin typeface="Arial Rounded MT Bold"/>
              </a:rPr>
              <a:t> emulsión de grasas </a:t>
            </a:r>
            <a:r>
              <a:rPr b="0" lang="es-AR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AR" sz="2600" spc="-1" strike="noStrike">
                <a:solidFill>
                  <a:srgbClr val="000000"/>
                </a:solidFill>
                <a:latin typeface="Arial Rounded MT Bold"/>
              </a:rPr>
              <a:t> formación de partículas coloidales </a:t>
            </a:r>
            <a:r>
              <a:rPr b="0" lang="es-AR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AR" sz="2600" spc="-1" strike="noStrike" u="sng">
                <a:solidFill>
                  <a:srgbClr val="000000"/>
                </a:solidFill>
                <a:uFillTx/>
                <a:latin typeface="Arial Rounded MT Bold"/>
              </a:rPr>
              <a:t>MICELAS</a:t>
            </a:r>
            <a:r>
              <a:rPr b="0" lang="es-AR" sz="2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 Rounded MT Bold"/>
              </a:rPr>
              <a:t>Favorecen la acción de la lip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 Rounded MT Bold"/>
              </a:rPr>
              <a:t>Favorecen la absorción de vitamin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 Rounded MT Bold"/>
              </a:rPr>
              <a:t>Acción colerética (estimulan la producción de bili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ángulo 20"/>
          <p:cNvSpPr/>
          <p:nvPr/>
        </p:nvSpPr>
        <p:spPr>
          <a:xfrm>
            <a:off x="5292720" y="1916280"/>
            <a:ext cx="385128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 Rounded MT Bold"/>
              </a:rPr>
              <a:t>Sales biliares y emulsión de gras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Cuadro de texto 6"/>
          <p:cNvSpPr/>
          <p:nvPr/>
        </p:nvSpPr>
        <p:spPr>
          <a:xfrm>
            <a:off x="900000" y="2421000"/>
            <a:ext cx="10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4" name="Grupo 19"/>
          <p:cNvGrpSpPr/>
          <p:nvPr/>
        </p:nvGrpSpPr>
        <p:grpSpPr>
          <a:xfrm>
            <a:off x="468360" y="1916280"/>
            <a:ext cx="8675640" cy="3893760"/>
            <a:chOff x="468360" y="1916280"/>
            <a:chExt cx="8675640" cy="3893760"/>
          </a:xfrm>
        </p:grpSpPr>
        <p:pic>
          <p:nvPicPr>
            <p:cNvPr id="575" name="Imagen 3" descr="fi18p4"/>
            <p:cNvPicPr/>
            <p:nvPr/>
          </p:nvPicPr>
          <p:blipFill>
            <a:blip r:embed="rId1"/>
            <a:stretch/>
          </p:blipFill>
          <p:spPr>
            <a:xfrm>
              <a:off x="468360" y="2205000"/>
              <a:ext cx="8497800" cy="327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6" name="Cuadro de texto 7"/>
            <p:cNvSpPr/>
            <p:nvPr/>
          </p:nvSpPr>
          <p:spPr>
            <a:xfrm>
              <a:off x="826920" y="4508640"/>
              <a:ext cx="151308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ido cólico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Cuadro de texto 8"/>
            <p:cNvSpPr/>
            <p:nvPr/>
          </p:nvSpPr>
          <p:spPr>
            <a:xfrm>
              <a:off x="1403280" y="2565360"/>
              <a:ext cx="151308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se hidrofóbic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Cuadro de texto 9"/>
            <p:cNvSpPr/>
            <p:nvPr/>
          </p:nvSpPr>
          <p:spPr>
            <a:xfrm>
              <a:off x="4067280" y="4437000"/>
              <a:ext cx="151272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se hidrofílic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Cuadro de texto 10"/>
            <p:cNvSpPr/>
            <p:nvPr/>
          </p:nvSpPr>
          <p:spPr>
            <a:xfrm>
              <a:off x="4140360" y="3429000"/>
              <a:ext cx="115236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ociac. con T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Cuadro de texto 11"/>
            <p:cNvSpPr/>
            <p:nvPr/>
          </p:nvSpPr>
          <p:spPr>
            <a:xfrm>
              <a:off x="2340000" y="5229360"/>
              <a:ext cx="187308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LES BILIAR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Cuadro de texto 12"/>
            <p:cNvSpPr/>
            <p:nvPr/>
          </p:nvSpPr>
          <p:spPr>
            <a:xfrm>
              <a:off x="6084720" y="5229360"/>
              <a:ext cx="136692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CELA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Cuadro de texto 13"/>
            <p:cNvSpPr/>
            <p:nvPr/>
          </p:nvSpPr>
          <p:spPr>
            <a:xfrm>
              <a:off x="5364000" y="2300400"/>
              <a:ext cx="151308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les biliar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Cuadro de texto 14"/>
            <p:cNvSpPr/>
            <p:nvPr/>
          </p:nvSpPr>
          <p:spPr>
            <a:xfrm>
              <a:off x="7451640" y="1916280"/>
              <a:ext cx="151308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pasa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ncreátic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Cuadro de texto 15"/>
            <p:cNvSpPr/>
            <p:nvPr/>
          </p:nvSpPr>
          <p:spPr>
            <a:xfrm>
              <a:off x="7631280" y="2587680"/>
              <a:ext cx="151272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iacilglicerol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Cuadro de texto 16"/>
            <p:cNvSpPr/>
            <p:nvPr/>
          </p:nvSpPr>
          <p:spPr>
            <a:xfrm>
              <a:off x="7740720" y="3860640"/>
              <a:ext cx="122400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gestión </a:t>
              </a:r>
              <a:r>
                <a:rPr b="1" i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pas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Cuadro de texto 17"/>
            <p:cNvSpPr/>
            <p:nvPr/>
          </p:nvSpPr>
          <p:spPr>
            <a:xfrm>
              <a:off x="7524720" y="5229360"/>
              <a:ext cx="93492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IDO GRASO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7" name="Cuadro de texto 18"/>
          <p:cNvSpPr/>
          <p:nvPr/>
        </p:nvSpPr>
        <p:spPr>
          <a:xfrm>
            <a:off x="395280" y="5877000"/>
            <a:ext cx="66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Colipas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: Péptido que forma complejo con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ipa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3 Rectángulo"/>
          <p:cNvSpPr/>
          <p:nvPr/>
        </p:nvSpPr>
        <p:spPr>
          <a:xfrm>
            <a:off x="415800" y="404640"/>
            <a:ext cx="8496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Los aceites contienen una considerable cantidad de </a:t>
            </a: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ácidos grasos insaturados</a:t>
            </a: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, como los ÁCIDOS OLEICO Y LINOLEICO, que tienden a ser líquidos a temperatura corporal, se absorben con relativa facilida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Mientras que los lípidos que contienen mayoritariamente </a:t>
            </a: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ácidos grasos saturados</a:t>
            </a: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, como los ÁCIDOS PALMÍTICO Y ESTEÁRICO, se digieren y absorben más lentamen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Los productos de digestión de las grasas están constituidos por una mezcla d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glicerol, ácidos grasos libres y  monoacilgliceroles</a:t>
            </a:r>
            <a:r>
              <a:rPr b="1" lang="es-E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Menos del 10% de los triglicéridos originales permanecen sin hidroliza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Rounded MT Bold"/>
              </a:rPr>
              <a:t>Enzimas Digestivas: </a:t>
            </a:r>
            <a:r>
              <a:rPr b="1" i="1" lang="es-ES" sz="3600" spc="-1" strike="noStrike">
                <a:solidFill>
                  <a:srgbClr val="000000"/>
                </a:solidFill>
                <a:latin typeface="Arial Rounded MT Bold"/>
              </a:rPr>
              <a:t>LIPAS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23640" y="2205000"/>
            <a:ext cx="8569080" cy="4464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3300"/>
                </a:solidFill>
                <a:latin typeface="Symbol"/>
                <a:ea typeface="Symbol"/>
              </a:rPr>
              <a:t>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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-</a:t>
            </a: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 Rounded MT Bold"/>
              </a:rPr>
              <a:t> lipasa</a:t>
            </a:r>
            <a:r>
              <a:rPr b="0" lang="es-ES" sz="2400" spc="-1" strike="noStrike">
                <a:solidFill>
                  <a:srgbClr val="ff3300"/>
                </a:solidFill>
                <a:latin typeface="Arial Rounded MT Bold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:</a:t>
            </a:r>
            <a:r>
              <a:rPr b="0" lang="es-ES" sz="2400" spc="-1" strike="noStrike">
                <a:solidFill>
                  <a:srgbClr val="ff3300"/>
                </a:solidFill>
                <a:latin typeface="Arial Rounded MT Bold"/>
                <a:ea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Ataca uniones éster de posición 1 y 3 de los TG dejando monoglicéridos esterificados en 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Esterasa </a:t>
            </a:r>
            <a:r>
              <a:rPr b="1" lang="es-E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: Hidroliza la unión 2 del monoglicérid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Fosfolipasa A</a:t>
            </a:r>
            <a:r>
              <a:rPr b="1" i="1" lang="es-ES" sz="2400" spc="-1" strike="noStrike" u="sng" baseline="-25000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: Actúa sobre el C 2 de leciti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Fosfatasa</a:t>
            </a:r>
            <a:r>
              <a:rPr b="1" lang="es-E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: Hidroliza unión fosfato de lisoleciti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Colesterol esterasa</a:t>
            </a:r>
            <a:r>
              <a:rPr b="1" lang="es-E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: Actúa sobre ésteres de colestero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1" name="Grupo 1033"/>
          <p:cNvGrpSpPr/>
          <p:nvPr/>
        </p:nvGrpSpPr>
        <p:grpSpPr>
          <a:xfrm>
            <a:off x="684360" y="1628640"/>
            <a:ext cx="7777080" cy="825480"/>
            <a:chOff x="684360" y="1628640"/>
            <a:chExt cx="7777080" cy="825480"/>
          </a:xfrm>
        </p:grpSpPr>
        <p:sp>
          <p:nvSpPr>
            <p:cNvPr id="592" name="Cuadro de texto 1031"/>
            <p:cNvSpPr/>
            <p:nvPr/>
          </p:nvSpPr>
          <p:spPr>
            <a:xfrm>
              <a:off x="684360" y="1628640"/>
              <a:ext cx="7777080" cy="825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IGLICERIDOS               GLICEROL  +  AC. GRAS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Línea 1032"/>
            <p:cNvSpPr/>
            <p:nvPr/>
          </p:nvSpPr>
          <p:spPr>
            <a:xfrm>
              <a:off x="3419640" y="1844640"/>
              <a:ext cx="792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ángulo 109"/>
          <p:cNvSpPr/>
          <p:nvPr/>
        </p:nvSpPr>
        <p:spPr>
          <a:xfrm rot="16200000">
            <a:off x="7661880" y="4394160"/>
            <a:ext cx="18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Áci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sos Lib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Línea 58"/>
          <p:cNvSpPr/>
          <p:nvPr/>
        </p:nvSpPr>
        <p:spPr>
          <a:xfrm>
            <a:off x="6354720" y="3782880"/>
            <a:ext cx="0" cy="141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Línea 66"/>
          <p:cNvSpPr/>
          <p:nvPr/>
        </p:nvSpPr>
        <p:spPr>
          <a:xfrm>
            <a:off x="6353280" y="5370480"/>
            <a:ext cx="0" cy="1396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Línea 67"/>
          <p:cNvSpPr/>
          <p:nvPr/>
        </p:nvSpPr>
        <p:spPr>
          <a:xfrm>
            <a:off x="6469200" y="5268960"/>
            <a:ext cx="1220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Línea 70"/>
          <p:cNvSpPr/>
          <p:nvPr/>
        </p:nvSpPr>
        <p:spPr>
          <a:xfrm>
            <a:off x="6130800" y="5265720"/>
            <a:ext cx="1206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Línea 72"/>
          <p:cNvSpPr/>
          <p:nvPr/>
        </p:nvSpPr>
        <p:spPr>
          <a:xfrm>
            <a:off x="6124680" y="3992400"/>
            <a:ext cx="1206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0" name="Grupo 136"/>
          <p:cNvGrpSpPr/>
          <p:nvPr/>
        </p:nvGrpSpPr>
        <p:grpSpPr>
          <a:xfrm>
            <a:off x="7020000" y="3003480"/>
            <a:ext cx="2116440" cy="820080"/>
            <a:chOff x="7020000" y="3003480"/>
            <a:chExt cx="2116440" cy="820080"/>
          </a:xfrm>
        </p:grpSpPr>
        <p:grpSp>
          <p:nvGrpSpPr>
            <p:cNvPr id="601" name="Grupo 135"/>
            <p:cNvGrpSpPr/>
            <p:nvPr/>
          </p:nvGrpSpPr>
          <p:grpSpPr>
            <a:xfrm>
              <a:off x="7020000" y="3003480"/>
              <a:ext cx="2116440" cy="820080"/>
              <a:chOff x="7020000" y="3003480"/>
              <a:chExt cx="2116440" cy="820080"/>
            </a:xfrm>
          </p:grpSpPr>
          <p:grpSp>
            <p:nvGrpSpPr>
              <p:cNvPr id="602" name="Grupo 134"/>
              <p:cNvGrpSpPr/>
              <p:nvPr/>
            </p:nvGrpSpPr>
            <p:grpSpPr>
              <a:xfrm>
                <a:off x="7020000" y="3003480"/>
                <a:ext cx="1701720" cy="795960"/>
                <a:chOff x="7020000" y="3003480"/>
                <a:chExt cx="1701720" cy="795960"/>
              </a:xfrm>
            </p:grpSpPr>
            <p:sp>
              <p:nvSpPr>
                <p:cNvPr id="603" name="Rectángulo 56"/>
                <p:cNvSpPr/>
                <p:nvPr/>
              </p:nvSpPr>
              <p:spPr>
                <a:xfrm>
                  <a:off x="7020000" y="3438360"/>
                  <a:ext cx="533160" cy="3373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HO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04" name="Rectángulo 75"/>
                <p:cNvSpPr/>
                <p:nvPr/>
              </p:nvSpPr>
              <p:spPr>
                <a:xfrm>
                  <a:off x="7542000" y="3431880"/>
                  <a:ext cx="326880" cy="3373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05" name="Rectángulo 76"/>
                <p:cNvSpPr/>
                <p:nvPr/>
              </p:nvSpPr>
              <p:spPr>
                <a:xfrm>
                  <a:off x="7853400" y="3428640"/>
                  <a:ext cx="868320" cy="3708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(CH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06" name="Rectángulo 81"/>
                <p:cNvSpPr/>
                <p:nvPr/>
              </p:nvSpPr>
              <p:spPr>
                <a:xfrm>
                  <a:off x="7524720" y="3003480"/>
                  <a:ext cx="282600" cy="3373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07" name="Línea 77"/>
                <p:cNvSpPr/>
                <p:nvPr/>
              </p:nvSpPr>
              <p:spPr>
                <a:xfrm>
                  <a:off x="7835760" y="3573360"/>
                  <a:ext cx="1209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08" name="Línea 78"/>
                <p:cNvSpPr/>
                <p:nvPr/>
              </p:nvSpPr>
              <p:spPr>
                <a:xfrm>
                  <a:off x="7424640" y="3565440"/>
                  <a:ext cx="120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09" name="Línea 79"/>
                <p:cNvSpPr/>
                <p:nvPr/>
              </p:nvSpPr>
              <p:spPr>
                <a:xfrm>
                  <a:off x="7667640" y="3322440"/>
                  <a:ext cx="1440" cy="122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0" name="Línea 80"/>
                <p:cNvSpPr/>
                <p:nvPr/>
              </p:nvSpPr>
              <p:spPr>
                <a:xfrm>
                  <a:off x="7723080" y="3321000"/>
                  <a:ext cx="0" cy="122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11" name="Rectángulo 83"/>
              <p:cNvSpPr/>
              <p:nvPr/>
            </p:nvSpPr>
            <p:spPr>
              <a:xfrm>
                <a:off x="8597520" y="3452760"/>
                <a:ext cx="538920" cy="37080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12" name="Línea 82"/>
            <p:cNvSpPr/>
            <p:nvPr/>
          </p:nvSpPr>
          <p:spPr>
            <a:xfrm>
              <a:off x="8483760" y="3581280"/>
              <a:ext cx="120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3" name="Línea 91"/>
          <p:cNvSpPr/>
          <p:nvPr/>
        </p:nvSpPr>
        <p:spPr>
          <a:xfrm>
            <a:off x="7818480" y="4632480"/>
            <a:ext cx="123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Rectángulo 107"/>
          <p:cNvSpPr/>
          <p:nvPr/>
        </p:nvSpPr>
        <p:spPr>
          <a:xfrm>
            <a:off x="3277080" y="4149720"/>
            <a:ext cx="146088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pa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ncreát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 6-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Cuadro de texto 110"/>
          <p:cNvSpPr/>
          <p:nvPr/>
        </p:nvSpPr>
        <p:spPr>
          <a:xfrm>
            <a:off x="395280" y="303120"/>
            <a:ext cx="8353440" cy="10263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Lipólisis de Triglicéridos po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Acción de </a:t>
            </a:r>
            <a:r>
              <a:rPr b="1" i="1" lang="en-US" sz="3600" spc="-1" strike="noStrike">
                <a:solidFill>
                  <a:srgbClr val="000000"/>
                </a:solidFill>
                <a:latin typeface="Arial Rounded MT Bold"/>
              </a:rPr>
              <a:t>Lipasa Pancreáti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ángulo 112"/>
          <p:cNvSpPr/>
          <p:nvPr/>
        </p:nvSpPr>
        <p:spPr>
          <a:xfrm>
            <a:off x="6348960" y="6323040"/>
            <a:ext cx="198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ubles en micel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Cuadro de texto 114"/>
          <p:cNvSpPr/>
          <p:nvPr/>
        </p:nvSpPr>
        <p:spPr>
          <a:xfrm>
            <a:off x="4427640" y="3141720"/>
            <a:ext cx="216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Rectángulo 111"/>
          <p:cNvSpPr/>
          <p:nvPr/>
        </p:nvSpPr>
        <p:spPr>
          <a:xfrm>
            <a:off x="1042200" y="6308640"/>
            <a:ext cx="21254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olubles en micel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Rectángulo 132"/>
          <p:cNvSpPr/>
          <p:nvPr/>
        </p:nvSpPr>
        <p:spPr>
          <a:xfrm>
            <a:off x="4650840" y="5589720"/>
            <a:ext cx="1872360" cy="34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oglicérid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Línea 133"/>
          <p:cNvSpPr/>
          <p:nvPr/>
        </p:nvSpPr>
        <p:spPr>
          <a:xfrm>
            <a:off x="3348000" y="4941720"/>
            <a:ext cx="165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1" name="Grupo 138"/>
          <p:cNvGrpSpPr/>
          <p:nvPr/>
        </p:nvGrpSpPr>
        <p:grpSpPr>
          <a:xfrm>
            <a:off x="7051680" y="5373720"/>
            <a:ext cx="2046600" cy="724680"/>
            <a:chOff x="7051680" y="5373720"/>
            <a:chExt cx="2046600" cy="724680"/>
          </a:xfrm>
        </p:grpSpPr>
        <p:grpSp>
          <p:nvGrpSpPr>
            <p:cNvPr id="622" name="Grupo 137"/>
            <p:cNvGrpSpPr/>
            <p:nvPr/>
          </p:nvGrpSpPr>
          <p:grpSpPr>
            <a:xfrm>
              <a:off x="7051680" y="5373720"/>
              <a:ext cx="2046600" cy="724680"/>
              <a:chOff x="7051680" y="5373720"/>
              <a:chExt cx="2046600" cy="724680"/>
            </a:xfrm>
          </p:grpSpPr>
          <p:grpSp>
            <p:nvGrpSpPr>
              <p:cNvPr id="623" name="Grupo 131"/>
              <p:cNvGrpSpPr/>
              <p:nvPr/>
            </p:nvGrpSpPr>
            <p:grpSpPr>
              <a:xfrm>
                <a:off x="7051680" y="5373720"/>
                <a:ext cx="2046600" cy="724680"/>
                <a:chOff x="7051680" y="5373720"/>
                <a:chExt cx="2046600" cy="724680"/>
              </a:xfrm>
            </p:grpSpPr>
            <p:sp>
              <p:nvSpPr>
                <p:cNvPr id="624" name="Rectángulo 74"/>
                <p:cNvSpPr/>
                <p:nvPr/>
              </p:nvSpPr>
              <p:spPr>
                <a:xfrm>
                  <a:off x="7051680" y="5682960"/>
                  <a:ext cx="685800" cy="3373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HO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5" name="Rectángulo 94"/>
                <p:cNvSpPr/>
                <p:nvPr/>
              </p:nvSpPr>
              <p:spPr>
                <a:xfrm>
                  <a:off x="7804080" y="5697360"/>
                  <a:ext cx="803520" cy="3708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(CH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tángulo 99"/>
                <p:cNvSpPr/>
                <p:nvPr/>
              </p:nvSpPr>
              <p:spPr>
                <a:xfrm>
                  <a:off x="7513560" y="5373720"/>
                  <a:ext cx="281160" cy="3373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Rectángulo 101"/>
                <p:cNvSpPr/>
                <p:nvPr/>
              </p:nvSpPr>
              <p:spPr>
                <a:xfrm>
                  <a:off x="8559360" y="5727600"/>
                  <a:ext cx="538920" cy="3708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28" name="Rectángulo 93"/>
              <p:cNvSpPr/>
              <p:nvPr/>
            </p:nvSpPr>
            <p:spPr>
              <a:xfrm>
                <a:off x="7505640" y="5681520"/>
                <a:ext cx="326880" cy="33732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9" name="Línea 100"/>
              <p:cNvSpPr/>
              <p:nvPr/>
            </p:nvSpPr>
            <p:spPr>
              <a:xfrm>
                <a:off x="8488440" y="585288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0" name="Línea 95"/>
            <p:cNvSpPr/>
            <p:nvPr/>
          </p:nvSpPr>
          <p:spPr>
            <a:xfrm>
              <a:off x="7746840" y="5843520"/>
              <a:ext cx="122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Línea 96"/>
            <p:cNvSpPr/>
            <p:nvPr/>
          </p:nvSpPr>
          <p:spPr>
            <a:xfrm>
              <a:off x="7462800" y="5835600"/>
              <a:ext cx="122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Línea 97"/>
            <p:cNvSpPr/>
            <p:nvPr/>
          </p:nvSpPr>
          <p:spPr>
            <a:xfrm>
              <a:off x="7648560" y="5628960"/>
              <a:ext cx="1440" cy="12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Línea 98"/>
            <p:cNvSpPr/>
            <p:nvPr/>
          </p:nvSpPr>
          <p:spPr>
            <a:xfrm>
              <a:off x="7704000" y="5627520"/>
              <a:ext cx="0" cy="12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4" name="Rectángulo 151"/>
          <p:cNvSpPr/>
          <p:nvPr/>
        </p:nvSpPr>
        <p:spPr>
          <a:xfrm>
            <a:off x="4932360" y="5084640"/>
            <a:ext cx="2872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5" name="Grupo 155"/>
          <p:cNvGrpSpPr/>
          <p:nvPr/>
        </p:nvGrpSpPr>
        <p:grpSpPr>
          <a:xfrm>
            <a:off x="4859280" y="3860640"/>
            <a:ext cx="2780280" cy="1618200"/>
            <a:chOff x="4859280" y="3860640"/>
            <a:chExt cx="2780280" cy="1618200"/>
          </a:xfrm>
        </p:grpSpPr>
        <p:grpSp>
          <p:nvGrpSpPr>
            <p:cNvPr id="636" name="Grupo 153"/>
            <p:cNvGrpSpPr/>
            <p:nvPr/>
          </p:nvGrpSpPr>
          <p:grpSpPr>
            <a:xfrm>
              <a:off x="4859280" y="3860640"/>
              <a:ext cx="2780280" cy="1618200"/>
              <a:chOff x="4859280" y="3860640"/>
              <a:chExt cx="2780280" cy="1618200"/>
            </a:xfrm>
          </p:grpSpPr>
          <p:grpSp>
            <p:nvGrpSpPr>
              <p:cNvPr id="637" name="Grupo 150"/>
              <p:cNvGrpSpPr/>
              <p:nvPr/>
            </p:nvGrpSpPr>
            <p:grpSpPr>
              <a:xfrm>
                <a:off x="4859280" y="3860640"/>
                <a:ext cx="2780280" cy="1618200"/>
                <a:chOff x="4859280" y="3860640"/>
                <a:chExt cx="2780280" cy="1618200"/>
              </a:xfrm>
            </p:grpSpPr>
            <p:grpSp>
              <p:nvGrpSpPr>
                <p:cNvPr id="638" name="Grupo 141"/>
                <p:cNvGrpSpPr/>
                <p:nvPr/>
              </p:nvGrpSpPr>
              <p:grpSpPr>
                <a:xfrm>
                  <a:off x="4859280" y="3860640"/>
                  <a:ext cx="2780280" cy="1618200"/>
                  <a:chOff x="4859280" y="3860640"/>
                  <a:chExt cx="2780280" cy="1618200"/>
                </a:xfrm>
              </p:grpSpPr>
              <p:grpSp>
                <p:nvGrpSpPr>
                  <p:cNvPr id="639" name="Grupo 140"/>
                  <p:cNvGrpSpPr/>
                  <p:nvPr/>
                </p:nvGrpSpPr>
                <p:grpSpPr>
                  <a:xfrm>
                    <a:off x="4859280" y="3860640"/>
                    <a:ext cx="2780280" cy="1618200"/>
                    <a:chOff x="4859280" y="3860640"/>
                    <a:chExt cx="2780280" cy="1618200"/>
                  </a:xfrm>
                </p:grpSpPr>
                <p:grpSp>
                  <p:nvGrpSpPr>
                    <p:cNvPr id="640" name="Grupo 139"/>
                    <p:cNvGrpSpPr/>
                    <p:nvPr/>
                  </p:nvGrpSpPr>
                  <p:grpSpPr>
                    <a:xfrm>
                      <a:off x="4859280" y="3860640"/>
                      <a:ext cx="2780280" cy="1618200"/>
                      <a:chOff x="4859280" y="3860640"/>
                      <a:chExt cx="2780280" cy="1618200"/>
                    </a:xfrm>
                  </p:grpSpPr>
                  <p:sp>
                    <p:nvSpPr>
                      <p:cNvPr id="641" name="Rectángulo 55"/>
                      <p:cNvSpPr/>
                      <p:nvPr/>
                    </p:nvSpPr>
                    <p:spPr>
                      <a:xfrm>
                        <a:off x="5183280" y="3868200"/>
                        <a:ext cx="32688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C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42" name="Rectángulo 57"/>
                      <p:cNvSpPr/>
                      <p:nvPr/>
                    </p:nvSpPr>
                    <p:spPr>
                      <a:xfrm>
                        <a:off x="4859280" y="4436640"/>
                        <a:ext cx="30168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H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43" name="Rectángulo 84"/>
                      <p:cNvSpPr/>
                      <p:nvPr/>
                    </p:nvSpPr>
                    <p:spPr>
                      <a:xfrm>
                        <a:off x="5891040" y="4460400"/>
                        <a:ext cx="32688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C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44" name="Rectángulo 85"/>
                      <p:cNvSpPr/>
                      <p:nvPr/>
                    </p:nvSpPr>
                    <p:spPr>
                      <a:xfrm>
                        <a:off x="6300720" y="4460400"/>
                        <a:ext cx="868320" cy="3708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(CH</a:t>
                        </a:r>
                        <a:r>
                          <a:rPr b="1" lang="en-US" sz="16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2</a:t>
                        </a: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)</a:t>
                        </a:r>
                        <a:r>
                          <a:rPr b="1" lang="en-US" sz="16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n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45" name="Rectángulo 90"/>
                      <p:cNvSpPr/>
                      <p:nvPr/>
                    </p:nvSpPr>
                    <p:spPr>
                      <a:xfrm>
                        <a:off x="5867280" y="4122360"/>
                        <a:ext cx="31608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O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46" name="Rectángulo 92"/>
                      <p:cNvSpPr/>
                      <p:nvPr/>
                    </p:nvSpPr>
                    <p:spPr>
                      <a:xfrm>
                        <a:off x="7100640" y="4460400"/>
                        <a:ext cx="538920" cy="3708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CH</a:t>
                        </a:r>
                        <a:r>
                          <a:rPr b="1" lang="en-US" sz="16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3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47" name="Rectángulo 103"/>
                      <p:cNvSpPr/>
                      <p:nvPr/>
                    </p:nvSpPr>
                    <p:spPr>
                      <a:xfrm>
                        <a:off x="4916160" y="5084280"/>
                        <a:ext cx="31032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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48" name="Rectángulo 106"/>
                      <p:cNvSpPr/>
                      <p:nvPr/>
                    </p:nvSpPr>
                    <p:spPr>
                      <a:xfrm>
                        <a:off x="5435640" y="5108040"/>
                        <a:ext cx="431640" cy="3708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H</a:t>
                        </a:r>
                        <a:r>
                          <a:rPr b="1" lang="en-US" sz="16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3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49" name="Rectángulo 54"/>
                      <p:cNvSpPr/>
                      <p:nvPr/>
                    </p:nvSpPr>
                    <p:spPr>
                      <a:xfrm>
                        <a:off x="5148360" y="4436640"/>
                        <a:ext cx="33012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C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50" name="Línea 59"/>
                      <p:cNvSpPr/>
                      <p:nvPr/>
                    </p:nvSpPr>
                    <p:spPr>
                      <a:xfrm>
                        <a:off x="5292720" y="4149360"/>
                        <a:ext cx="0" cy="36936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51" name="Línea 68"/>
                      <p:cNvSpPr/>
                      <p:nvPr/>
                    </p:nvSpPr>
                    <p:spPr>
                      <a:xfrm>
                        <a:off x="5292720" y="4723920"/>
                        <a:ext cx="0" cy="36972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52" name="Línea 87"/>
                      <p:cNvSpPr/>
                      <p:nvPr/>
                    </p:nvSpPr>
                    <p:spPr>
                      <a:xfrm>
                        <a:off x="7020000" y="4676400"/>
                        <a:ext cx="12204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53" name="Línea 86"/>
                      <p:cNvSpPr/>
                      <p:nvPr/>
                    </p:nvSpPr>
                    <p:spPr>
                      <a:xfrm>
                        <a:off x="6156360" y="4652640"/>
                        <a:ext cx="12204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54" name="Rectángulo 73"/>
                      <p:cNvSpPr/>
                      <p:nvPr/>
                    </p:nvSpPr>
                    <p:spPr>
                      <a:xfrm>
                        <a:off x="5508720" y="4436640"/>
                        <a:ext cx="28080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O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55" name="Rectángulo 105"/>
                      <p:cNvSpPr/>
                      <p:nvPr/>
                    </p:nvSpPr>
                    <p:spPr>
                      <a:xfrm>
                        <a:off x="5435640" y="3860640"/>
                        <a:ext cx="438120" cy="3708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H</a:t>
                        </a:r>
                        <a:r>
                          <a:rPr b="1" lang="en-US" sz="16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3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sp>
                  <p:nvSpPr>
                    <p:cNvPr id="656" name="Rectángulo 102"/>
                    <p:cNvSpPr/>
                    <p:nvPr/>
                  </p:nvSpPr>
                  <p:spPr>
                    <a:xfrm>
                      <a:off x="5364000" y="4076280"/>
                      <a:ext cx="301680" cy="368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57" name="Rectángulo 104"/>
                    <p:cNvSpPr/>
                    <p:nvPr/>
                  </p:nvSpPr>
                  <p:spPr>
                    <a:xfrm>
                      <a:off x="5294160" y="4676400"/>
                      <a:ext cx="29196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58" name="Línea 61"/>
                    <p:cNvSpPr/>
                    <p:nvPr/>
                  </p:nvSpPr>
                  <p:spPr>
                    <a:xfrm>
                      <a:off x="5796000" y="4652640"/>
                      <a:ext cx="1220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59" name="Línea 88"/>
                    <p:cNvSpPr/>
                    <p:nvPr/>
                  </p:nvSpPr>
                  <p:spPr>
                    <a:xfrm>
                      <a:off x="6012000" y="4365360"/>
                      <a:ext cx="1440" cy="12168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60" name="Línea 89"/>
                    <p:cNvSpPr/>
                    <p:nvPr/>
                  </p:nvSpPr>
                  <p:spPr>
                    <a:xfrm>
                      <a:off x="6067440" y="4376520"/>
                      <a:ext cx="0" cy="12168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61" name="Línea 60"/>
                    <p:cNvSpPr/>
                    <p:nvPr/>
                  </p:nvSpPr>
                  <p:spPr>
                    <a:xfrm>
                      <a:off x="5435640" y="4652640"/>
                      <a:ext cx="1220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662" name="Rectángulo 64"/>
                  <p:cNvSpPr/>
                  <p:nvPr/>
                </p:nvSpPr>
                <p:spPr>
                  <a:xfrm>
                    <a:off x="5170320" y="5116320"/>
                    <a:ext cx="326880" cy="337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C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663" name="Rectángulo 149"/>
                <p:cNvSpPr/>
                <p:nvPr/>
              </p:nvSpPr>
              <p:spPr>
                <a:xfrm>
                  <a:off x="4932360" y="5092560"/>
                  <a:ext cx="287280" cy="360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4" name="Rectángulo 152"/>
              <p:cNvSpPr/>
              <p:nvPr/>
            </p:nvSpPr>
            <p:spPr>
              <a:xfrm>
                <a:off x="5364000" y="4732200"/>
                <a:ext cx="216000" cy="28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65" name="Rectángulo 154"/>
            <p:cNvSpPr/>
            <p:nvPr/>
          </p:nvSpPr>
          <p:spPr>
            <a:xfrm>
              <a:off x="5364000" y="4228920"/>
              <a:ext cx="287640" cy="14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6" name="Grupo 178"/>
          <p:cNvGrpSpPr/>
          <p:nvPr/>
        </p:nvGrpSpPr>
        <p:grpSpPr>
          <a:xfrm>
            <a:off x="250920" y="2997360"/>
            <a:ext cx="2705400" cy="3148200"/>
            <a:chOff x="250920" y="2997360"/>
            <a:chExt cx="2705400" cy="3148200"/>
          </a:xfrm>
        </p:grpSpPr>
        <p:sp>
          <p:nvSpPr>
            <p:cNvPr id="667" name="Rectángulo 47"/>
            <p:cNvSpPr/>
            <p:nvPr/>
          </p:nvSpPr>
          <p:spPr>
            <a:xfrm>
              <a:off x="1227240" y="4317840"/>
              <a:ext cx="2808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8" name="Grupo 177"/>
            <p:cNvGrpSpPr/>
            <p:nvPr/>
          </p:nvGrpSpPr>
          <p:grpSpPr>
            <a:xfrm>
              <a:off x="250920" y="2997360"/>
              <a:ext cx="2705400" cy="3148200"/>
              <a:chOff x="250920" y="2997360"/>
              <a:chExt cx="2705400" cy="3148200"/>
            </a:xfrm>
          </p:grpSpPr>
          <p:sp>
            <p:nvSpPr>
              <p:cNvPr id="669" name="Rectángulo 49"/>
              <p:cNvSpPr/>
              <p:nvPr/>
            </p:nvSpPr>
            <p:spPr>
              <a:xfrm>
                <a:off x="2417400" y="4579920"/>
                <a:ext cx="538920" cy="37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Rectángulo 163"/>
              <p:cNvSpPr/>
              <p:nvPr/>
            </p:nvSpPr>
            <p:spPr>
              <a:xfrm>
                <a:off x="1617840" y="4579920"/>
                <a:ext cx="868320" cy="37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(C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Línea 164"/>
              <p:cNvSpPr/>
              <p:nvPr/>
            </p:nvSpPr>
            <p:spPr>
              <a:xfrm>
                <a:off x="2289240" y="4724280"/>
                <a:ext cx="120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72" name="Grupo 176"/>
              <p:cNvGrpSpPr/>
              <p:nvPr/>
            </p:nvGrpSpPr>
            <p:grpSpPr>
              <a:xfrm>
                <a:off x="250920" y="2997360"/>
                <a:ext cx="2705400" cy="3148200"/>
                <a:chOff x="250920" y="2997360"/>
                <a:chExt cx="2705400" cy="3148200"/>
              </a:xfrm>
            </p:grpSpPr>
            <p:sp>
              <p:nvSpPr>
                <p:cNvPr id="673" name="Rectángulo 13"/>
                <p:cNvSpPr/>
                <p:nvPr/>
              </p:nvSpPr>
              <p:spPr>
                <a:xfrm>
                  <a:off x="574560" y="4962240"/>
                  <a:ext cx="30168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4" name="Rectángulo 12"/>
                <p:cNvSpPr/>
                <p:nvPr/>
              </p:nvSpPr>
              <p:spPr>
                <a:xfrm>
                  <a:off x="561960" y="4618080"/>
                  <a:ext cx="32688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5" name="Línea 14"/>
                <p:cNvSpPr/>
                <p:nvPr/>
              </p:nvSpPr>
              <p:spPr>
                <a:xfrm>
                  <a:off x="736560" y="4878360"/>
                  <a:ext cx="0" cy="139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6" name="Rectángulo 17"/>
                <p:cNvSpPr/>
                <p:nvPr/>
              </p:nvSpPr>
              <p:spPr>
                <a:xfrm>
                  <a:off x="258840" y="4627440"/>
                  <a:ext cx="30168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7" name="Línea 18"/>
                <p:cNvSpPr/>
                <p:nvPr/>
              </p:nvSpPr>
              <p:spPr>
                <a:xfrm>
                  <a:off x="514440" y="4773600"/>
                  <a:ext cx="120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8" name="Rectángulo 22"/>
                <p:cNvSpPr/>
                <p:nvPr/>
              </p:nvSpPr>
              <p:spPr>
                <a:xfrm>
                  <a:off x="952560" y="4626000"/>
                  <a:ext cx="28260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9" name="Rectángulo 41"/>
                <p:cNvSpPr/>
                <p:nvPr/>
              </p:nvSpPr>
              <p:spPr>
                <a:xfrm>
                  <a:off x="1218960" y="4624200"/>
                  <a:ext cx="32688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0" name="Línea 43"/>
                <p:cNvSpPr/>
                <p:nvPr/>
              </p:nvSpPr>
              <p:spPr>
                <a:xfrm>
                  <a:off x="1460520" y="4786200"/>
                  <a:ext cx="1220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1" name="Línea 15"/>
                <p:cNvSpPr/>
                <p:nvPr/>
              </p:nvSpPr>
              <p:spPr>
                <a:xfrm>
                  <a:off x="838080" y="4768920"/>
                  <a:ext cx="1224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2" name="Línea 46"/>
                <p:cNvSpPr/>
                <p:nvPr/>
              </p:nvSpPr>
              <p:spPr>
                <a:xfrm>
                  <a:off x="1417680" y="4591080"/>
                  <a:ext cx="0" cy="120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83" name="Grupo 170"/>
                <p:cNvGrpSpPr/>
                <p:nvPr/>
              </p:nvGrpSpPr>
              <p:grpSpPr>
                <a:xfrm>
                  <a:off x="250920" y="2997360"/>
                  <a:ext cx="2705400" cy="3148200"/>
                  <a:chOff x="250920" y="2997360"/>
                  <a:chExt cx="2705400" cy="3148200"/>
                </a:xfrm>
              </p:grpSpPr>
              <p:sp>
                <p:nvSpPr>
                  <p:cNvPr id="684" name="Rectángulo 40"/>
                  <p:cNvSpPr/>
                  <p:nvPr/>
                </p:nvSpPr>
                <p:spPr>
                  <a:xfrm>
                    <a:off x="2417400" y="4005000"/>
                    <a:ext cx="538920" cy="3708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CH</a:t>
                    </a:r>
                    <a:r>
                      <a:rPr b="1" lang="en-US" sz="16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5" name="Rectángulo 32"/>
                  <p:cNvSpPr/>
                  <p:nvPr/>
                </p:nvSpPr>
                <p:spPr>
                  <a:xfrm>
                    <a:off x="1222200" y="4005000"/>
                    <a:ext cx="326880" cy="337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C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6" name="Rectángulo 38"/>
                  <p:cNvSpPr/>
                  <p:nvPr/>
                </p:nvSpPr>
                <p:spPr>
                  <a:xfrm>
                    <a:off x="1209600" y="3679560"/>
                    <a:ext cx="281160" cy="337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7" name="Línea 34"/>
                  <p:cNvSpPr/>
                  <p:nvPr/>
                </p:nvSpPr>
                <p:spPr>
                  <a:xfrm>
                    <a:off x="1460520" y="4133520"/>
                    <a:ext cx="1224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8" name="Línea 35"/>
                  <p:cNvSpPr/>
                  <p:nvPr/>
                </p:nvSpPr>
                <p:spPr>
                  <a:xfrm>
                    <a:off x="1162080" y="4163760"/>
                    <a:ext cx="1224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9" name="Línea 36"/>
                  <p:cNvSpPr/>
                  <p:nvPr/>
                </p:nvSpPr>
                <p:spPr>
                  <a:xfrm>
                    <a:off x="1347840" y="3956040"/>
                    <a:ext cx="1440" cy="1216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90" name="Línea 37"/>
                  <p:cNvSpPr/>
                  <p:nvPr/>
                </p:nvSpPr>
                <p:spPr>
                  <a:xfrm>
                    <a:off x="1403280" y="3954240"/>
                    <a:ext cx="0" cy="122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91" name="Rectángulo 162"/>
                  <p:cNvSpPr/>
                  <p:nvPr/>
                </p:nvSpPr>
                <p:spPr>
                  <a:xfrm>
                    <a:off x="1617840" y="4005000"/>
                    <a:ext cx="868320" cy="3708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(CH</a:t>
                    </a:r>
                    <a:r>
                      <a:rPr b="1" lang="en-US" sz="16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)</a:t>
                    </a:r>
                    <a:r>
                      <a:rPr b="1" lang="en-US" sz="16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n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92" name="Línea 165"/>
                  <p:cNvSpPr/>
                  <p:nvPr/>
                </p:nvSpPr>
                <p:spPr>
                  <a:xfrm>
                    <a:off x="2289240" y="4147920"/>
                    <a:ext cx="1206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693" name="Grupo 169"/>
                  <p:cNvGrpSpPr/>
                  <p:nvPr/>
                </p:nvGrpSpPr>
                <p:grpSpPr>
                  <a:xfrm>
                    <a:off x="250920" y="2997360"/>
                    <a:ext cx="2562480" cy="3148200"/>
                    <a:chOff x="250920" y="2997360"/>
                    <a:chExt cx="2562480" cy="3148200"/>
                  </a:xfrm>
                </p:grpSpPr>
                <p:sp>
                  <p:nvSpPr>
                    <p:cNvPr id="694" name="Rectángulo 29"/>
                    <p:cNvSpPr/>
                    <p:nvPr/>
                  </p:nvSpPr>
                  <p:spPr>
                    <a:xfrm>
                      <a:off x="1225440" y="2997360"/>
                      <a:ext cx="282600" cy="337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95" name="Rectángulo 24"/>
                    <p:cNvSpPr/>
                    <p:nvPr/>
                  </p:nvSpPr>
                  <p:spPr>
                    <a:xfrm>
                      <a:off x="1528920" y="3350880"/>
                      <a:ext cx="868320" cy="370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H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96" name="Línea 30"/>
                    <p:cNvSpPr/>
                    <p:nvPr/>
                  </p:nvSpPr>
                  <p:spPr>
                    <a:xfrm>
                      <a:off x="2203560" y="3524040"/>
                      <a:ext cx="1206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97" name="Rectángulo 31"/>
                    <p:cNvSpPr/>
                    <p:nvPr/>
                  </p:nvSpPr>
                  <p:spPr>
                    <a:xfrm>
                      <a:off x="2274480" y="3355920"/>
                      <a:ext cx="538920" cy="370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98" name="Línea 27"/>
                    <p:cNvSpPr/>
                    <p:nvPr/>
                  </p:nvSpPr>
                  <p:spPr>
                    <a:xfrm>
                      <a:off x="1346400" y="3286080"/>
                      <a:ext cx="1440" cy="1011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99" name="Línea 28"/>
                    <p:cNvSpPr/>
                    <p:nvPr/>
                  </p:nvSpPr>
                  <p:spPr>
                    <a:xfrm>
                      <a:off x="1403280" y="3284280"/>
                      <a:ext cx="0" cy="1220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700" name="Rectángulo 23"/>
                    <p:cNvSpPr/>
                    <p:nvPr/>
                  </p:nvSpPr>
                  <p:spPr>
                    <a:xfrm>
                      <a:off x="1217520" y="3354120"/>
                      <a:ext cx="326880" cy="337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grpSp>
                  <p:nvGrpSpPr>
                    <p:cNvPr id="701" name="Grupo 168"/>
                    <p:cNvGrpSpPr/>
                    <p:nvPr/>
                  </p:nvGrpSpPr>
                  <p:grpSpPr>
                    <a:xfrm>
                      <a:off x="250920" y="3022560"/>
                      <a:ext cx="2506320" cy="3123000"/>
                      <a:chOff x="250920" y="3022560"/>
                      <a:chExt cx="2506320" cy="3123000"/>
                    </a:xfrm>
                  </p:grpSpPr>
                  <p:sp>
                    <p:nvSpPr>
                      <p:cNvPr id="702" name="Rectángulo 21"/>
                      <p:cNvSpPr/>
                      <p:nvPr/>
                    </p:nvSpPr>
                    <p:spPr>
                      <a:xfrm>
                        <a:off x="930240" y="3982680"/>
                        <a:ext cx="28116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O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03" name="Rectángulo 5"/>
                      <p:cNvSpPr/>
                      <p:nvPr/>
                    </p:nvSpPr>
                    <p:spPr>
                      <a:xfrm>
                        <a:off x="250920" y="3993480"/>
                        <a:ext cx="30168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H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04" name="Rectángulo 2"/>
                      <p:cNvSpPr/>
                      <p:nvPr/>
                    </p:nvSpPr>
                    <p:spPr>
                      <a:xfrm>
                        <a:off x="576360" y="3979440"/>
                        <a:ext cx="32688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C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05" name="Línea 8"/>
                      <p:cNvSpPr/>
                      <p:nvPr/>
                    </p:nvSpPr>
                    <p:spPr>
                      <a:xfrm>
                        <a:off x="860400" y="4133160"/>
                        <a:ext cx="12240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06" name="Línea 9"/>
                      <p:cNvSpPr/>
                      <p:nvPr/>
                    </p:nvSpPr>
                    <p:spPr>
                      <a:xfrm>
                        <a:off x="523800" y="4177800"/>
                        <a:ext cx="12240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707" name="Grupo 167"/>
                      <p:cNvGrpSpPr/>
                      <p:nvPr/>
                    </p:nvGrpSpPr>
                    <p:grpSpPr>
                      <a:xfrm>
                        <a:off x="252360" y="3022560"/>
                        <a:ext cx="2504880" cy="3123000"/>
                        <a:chOff x="252360" y="3022560"/>
                        <a:chExt cx="2504880" cy="3123000"/>
                      </a:xfrm>
                    </p:grpSpPr>
                    <p:sp>
                      <p:nvSpPr>
                        <p:cNvPr id="708" name="Rectángulo 108"/>
                        <p:cNvSpPr/>
                        <p:nvPr/>
                      </p:nvSpPr>
                      <p:spPr>
                        <a:xfrm>
                          <a:off x="1203480" y="5805000"/>
                          <a:ext cx="1553760" cy="34056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 algn="ctr">
                            <a:lnSpc>
                              <a:spcPct val="9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Triglicéridos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09" name="Rectángulo 4"/>
                        <p:cNvSpPr/>
                        <p:nvPr/>
                      </p:nvSpPr>
                      <p:spPr>
                        <a:xfrm>
                          <a:off x="893880" y="3350520"/>
                          <a:ext cx="28260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O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10" name="Rectángulo 3"/>
                        <p:cNvSpPr/>
                        <p:nvPr/>
                      </p:nvSpPr>
                      <p:spPr>
                        <a:xfrm>
                          <a:off x="574560" y="3377520"/>
                          <a:ext cx="32688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C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11" name="Rectángulo 11"/>
                        <p:cNvSpPr/>
                        <p:nvPr/>
                      </p:nvSpPr>
                      <p:spPr>
                        <a:xfrm>
                          <a:off x="585720" y="3022560"/>
                          <a:ext cx="30168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H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12" name="Rectángulo 19"/>
                        <p:cNvSpPr/>
                        <p:nvPr/>
                      </p:nvSpPr>
                      <p:spPr>
                        <a:xfrm>
                          <a:off x="252360" y="3355560"/>
                          <a:ext cx="30168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H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13" name="Línea 20"/>
                        <p:cNvSpPr/>
                        <p:nvPr/>
                      </p:nvSpPr>
                      <p:spPr>
                        <a:xfrm>
                          <a:off x="466920" y="3492000"/>
                          <a:ext cx="14760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14" name="Línea 6"/>
                        <p:cNvSpPr/>
                        <p:nvPr/>
                      </p:nvSpPr>
                      <p:spPr>
                        <a:xfrm>
                          <a:off x="723960" y="3282480"/>
                          <a:ext cx="0" cy="1407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15" name="Línea 10"/>
                        <p:cNvSpPr/>
                        <p:nvPr/>
                      </p:nvSpPr>
                      <p:spPr>
                        <a:xfrm>
                          <a:off x="819360" y="3495240"/>
                          <a:ext cx="12060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16" name="Línea 26"/>
                        <p:cNvSpPr/>
                        <p:nvPr/>
                      </p:nvSpPr>
                      <p:spPr>
                        <a:xfrm>
                          <a:off x="1176480" y="3507840"/>
                          <a:ext cx="12060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sp>
                    <p:nvSpPr>
                      <p:cNvPr id="717" name="Línea 159"/>
                      <p:cNvSpPr/>
                      <p:nvPr/>
                    </p:nvSpPr>
                    <p:spPr>
                      <a:xfrm>
                        <a:off x="754200" y="3644280"/>
                        <a:ext cx="0" cy="35856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18" name="Línea 160"/>
                      <p:cNvSpPr/>
                      <p:nvPr/>
                    </p:nvSpPr>
                    <p:spPr>
                      <a:xfrm>
                        <a:off x="754200" y="4293720"/>
                        <a:ext cx="0" cy="35820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sp>
                  <p:nvSpPr>
                    <p:cNvPr id="719" name="Línea 25"/>
                    <p:cNvSpPr/>
                    <p:nvPr/>
                  </p:nvSpPr>
                  <p:spPr>
                    <a:xfrm>
                      <a:off x="1460520" y="3516120"/>
                      <a:ext cx="1206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720" name="Línea 44"/>
                <p:cNvSpPr/>
                <p:nvPr/>
              </p:nvSpPr>
              <p:spPr>
                <a:xfrm>
                  <a:off x="1162080" y="4797360"/>
                  <a:ext cx="1220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21" name="Línea 175"/>
                <p:cNvSpPr/>
                <p:nvPr/>
              </p:nvSpPr>
              <p:spPr>
                <a:xfrm>
                  <a:off x="1366920" y="4578120"/>
                  <a:ext cx="0" cy="120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722" name="Cuadro de texto 179"/>
          <p:cNvSpPr/>
          <p:nvPr/>
        </p:nvSpPr>
        <p:spPr>
          <a:xfrm>
            <a:off x="4356000" y="2060640"/>
            <a:ext cx="1368360" cy="45972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stera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Forma libre 181"/>
          <p:cNvSpPr/>
          <p:nvPr/>
        </p:nvSpPr>
        <p:spPr>
          <a:xfrm>
            <a:off x="4716360" y="2492280"/>
            <a:ext cx="486000" cy="2041560"/>
          </a:xfrm>
          <a:custGeom>
            <a:avLst/>
            <a:gdLst/>
            <a:ahLst/>
            <a:rect l="l" t="t" r="r" b="b"/>
            <a:pathLst>
              <a:path w="306" h="1286">
                <a:moveTo>
                  <a:pt x="38" y="0"/>
                </a:moveTo>
                <a:cubicBezTo>
                  <a:pt x="19" y="329"/>
                  <a:pt x="0" y="658"/>
                  <a:pt x="38" y="862"/>
                </a:cubicBezTo>
                <a:cubicBezTo>
                  <a:pt x="76" y="1066"/>
                  <a:pt x="224" y="1164"/>
                  <a:pt x="265" y="1225"/>
                </a:cubicBezTo>
                <a:cubicBezTo>
                  <a:pt x="306" y="1286"/>
                  <a:pt x="281" y="1229"/>
                  <a:pt x="285" y="1230"/>
                </a:cubicBezTo>
              </a:path>
            </a:pathLst>
          </a:custGeom>
          <a:noFill/>
          <a:ln w="31680">
            <a:solidFill>
              <a:srgbClr val="c050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Cuadro de texto 182"/>
          <p:cNvSpPr/>
          <p:nvPr/>
        </p:nvSpPr>
        <p:spPr>
          <a:xfrm>
            <a:off x="5219640" y="3789360"/>
            <a:ext cx="108108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  <a:ea typeface="Arial"/>
              </a:rPr>
              <a:t>CH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Arial Black"/>
                <a:ea typeface="Arial"/>
              </a:rPr>
              <a:t>2</a:t>
            </a:r>
            <a:r>
              <a:rPr b="0" lang="es-ES_tradnl" sz="1600" spc="-1" strike="noStrike">
                <a:solidFill>
                  <a:srgbClr val="000000"/>
                </a:solidFill>
                <a:latin typeface="Arial Black"/>
                <a:ea typeface="Arial"/>
              </a:rPr>
              <a:t>O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Cuadro de texto 183"/>
          <p:cNvSpPr/>
          <p:nvPr/>
        </p:nvSpPr>
        <p:spPr>
          <a:xfrm>
            <a:off x="5148360" y="5084640"/>
            <a:ext cx="108108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  <a:ea typeface="Arial"/>
              </a:rPr>
              <a:t>CH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Arial Black"/>
                <a:ea typeface="Arial"/>
              </a:rPr>
              <a:t>2</a:t>
            </a:r>
            <a:r>
              <a:rPr b="0" lang="es-ES_tradnl" sz="1600" spc="-1" strike="noStrike">
                <a:solidFill>
                  <a:srgbClr val="000000"/>
                </a:solidFill>
                <a:latin typeface="Arial Black"/>
                <a:ea typeface="Arial"/>
              </a:rPr>
              <a:t>O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8748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Rounded MT Bold"/>
              </a:rPr>
              <a:t>Digestión de Fosfolípi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7" name="Grupo 11"/>
          <p:cNvGrpSpPr/>
          <p:nvPr/>
        </p:nvGrpSpPr>
        <p:grpSpPr>
          <a:xfrm>
            <a:off x="1403280" y="2852640"/>
            <a:ext cx="5400720" cy="2388960"/>
            <a:chOff x="1403280" y="2852640"/>
            <a:chExt cx="5400720" cy="2388960"/>
          </a:xfrm>
        </p:grpSpPr>
        <p:pic>
          <p:nvPicPr>
            <p:cNvPr id="728" name="Imagen 5" descr="fi19p5"/>
            <p:cNvPicPr/>
            <p:nvPr/>
          </p:nvPicPr>
          <p:blipFill>
            <a:blip r:embed="rId1"/>
            <a:srcRect l="4770" t="76815" r="17641" b="0"/>
            <a:stretch/>
          </p:blipFill>
          <p:spPr>
            <a:xfrm>
              <a:off x="1403280" y="2852640"/>
              <a:ext cx="5400720" cy="23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9" name="Cuadro de texto 7"/>
            <p:cNvSpPr/>
            <p:nvPr/>
          </p:nvSpPr>
          <p:spPr>
            <a:xfrm>
              <a:off x="2339640" y="4868640"/>
              <a:ext cx="3313440" cy="3682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sfatidilcolina (Lecitina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0" name="Cuadro de texto 15"/>
          <p:cNvSpPr/>
          <p:nvPr/>
        </p:nvSpPr>
        <p:spPr>
          <a:xfrm>
            <a:off x="684360" y="5661000"/>
            <a:ext cx="1655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steras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Cuadro de texto 14"/>
          <p:cNvSpPr/>
          <p:nvPr/>
        </p:nvSpPr>
        <p:spPr>
          <a:xfrm>
            <a:off x="4067280" y="5734080"/>
            <a:ext cx="1726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Fosfatas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2" name="Grupo 18"/>
          <p:cNvGrpSpPr/>
          <p:nvPr/>
        </p:nvGrpSpPr>
        <p:grpSpPr>
          <a:xfrm>
            <a:off x="2195640" y="1881360"/>
            <a:ext cx="2232000" cy="2087280"/>
            <a:chOff x="2195640" y="1881360"/>
            <a:chExt cx="2232000" cy="2087280"/>
          </a:xfrm>
        </p:grpSpPr>
        <p:sp>
          <p:nvSpPr>
            <p:cNvPr id="733" name="Cuadro de texto 13"/>
            <p:cNvSpPr/>
            <p:nvPr/>
          </p:nvSpPr>
          <p:spPr>
            <a:xfrm>
              <a:off x="2195640" y="1881360"/>
              <a:ext cx="2232000" cy="51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osfolipasa A</a:t>
              </a:r>
              <a:r>
                <a:rPr b="1" i="1" lang="es-ES_tradnl" sz="24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" name="Forma libre 16"/>
            <p:cNvSpPr/>
            <p:nvPr/>
          </p:nvSpPr>
          <p:spPr>
            <a:xfrm>
              <a:off x="2482920" y="2384280"/>
              <a:ext cx="287280" cy="1584360"/>
            </a:xfrm>
            <a:custGeom>
              <a:avLst/>
              <a:gdLst/>
              <a:ahLst/>
              <a:rect l="l" t="t" r="r" b="b"/>
              <a:pathLst>
                <a:path w="306" h="1286">
                  <a:moveTo>
                    <a:pt x="38" y="0"/>
                  </a:moveTo>
                  <a:cubicBezTo>
                    <a:pt x="19" y="329"/>
                    <a:pt x="0" y="658"/>
                    <a:pt x="38" y="862"/>
                  </a:cubicBezTo>
                  <a:cubicBezTo>
                    <a:pt x="76" y="1066"/>
                    <a:pt x="224" y="1164"/>
                    <a:pt x="265" y="1225"/>
                  </a:cubicBezTo>
                  <a:cubicBezTo>
                    <a:pt x="306" y="1286"/>
                    <a:pt x="281" y="1229"/>
                    <a:pt x="285" y="1230"/>
                  </a:cubicBezTo>
                </a:path>
              </a:pathLst>
            </a:custGeom>
            <a:noFill/>
            <a:ln w="31680">
              <a:solidFill>
                <a:srgbClr val="c0504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Cuadro de texto 5"/>
          <p:cNvSpPr/>
          <p:nvPr/>
        </p:nvSpPr>
        <p:spPr>
          <a:xfrm>
            <a:off x="108000" y="115920"/>
            <a:ext cx="8856720" cy="1537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Absorción de lípido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Acción de sales bilia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Cuadro de texto 6"/>
          <p:cNvSpPr/>
          <p:nvPr/>
        </p:nvSpPr>
        <p:spPr>
          <a:xfrm>
            <a:off x="755640" y="2492280"/>
            <a:ext cx="3456000" cy="862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C.GRASOS LIBR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ONOGLICÉRI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7" name="Grupo 13"/>
          <p:cNvGrpSpPr/>
          <p:nvPr/>
        </p:nvGrpSpPr>
        <p:grpSpPr>
          <a:xfrm>
            <a:off x="5362560" y="2205000"/>
            <a:ext cx="3529080" cy="1655640"/>
            <a:chOff x="5362560" y="2205000"/>
            <a:chExt cx="3529080" cy="1655640"/>
          </a:xfrm>
        </p:grpSpPr>
        <p:sp>
          <p:nvSpPr>
            <p:cNvPr id="738" name="Elipse 11"/>
            <p:cNvSpPr/>
            <p:nvPr/>
          </p:nvSpPr>
          <p:spPr>
            <a:xfrm>
              <a:off x="5362560" y="2205000"/>
              <a:ext cx="3529080" cy="1655640"/>
            </a:xfrm>
            <a:prstGeom prst="ellipse">
              <a:avLst/>
            </a:prstGeom>
            <a:solidFill>
              <a:srgbClr val="77933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" name="Cuadro de texto 7"/>
            <p:cNvSpPr/>
            <p:nvPr/>
          </p:nvSpPr>
          <p:spPr>
            <a:xfrm>
              <a:off x="5796000" y="2432160"/>
              <a:ext cx="2808360" cy="1191240"/>
            </a:xfrm>
            <a:prstGeom prst="rect">
              <a:avLst/>
            </a:prstGeom>
            <a:solidFill>
              <a:srgbClr val="c3d6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 Rounded MT Bold"/>
                  <a:ea typeface="Arial"/>
                </a:rPr>
                <a:t>Atraviesan la membrana del enterocito por difusión simpl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0" name="Cuadro de texto 8"/>
          <p:cNvSpPr/>
          <p:nvPr/>
        </p:nvSpPr>
        <p:spPr>
          <a:xfrm>
            <a:off x="122400" y="1601640"/>
            <a:ext cx="8866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EN </a:t>
            </a:r>
            <a:r>
              <a:rPr b="1" lang="es-ES_tradnl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YEYUNO</a:t>
            </a: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e </a:t>
            </a:r>
            <a:r>
              <a:rPr b="1" lang="es-ES_tradnl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ILEON</a:t>
            </a: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POR DIFUSION PAS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Cuadro de texto 9"/>
          <p:cNvSpPr/>
          <p:nvPr/>
        </p:nvSpPr>
        <p:spPr>
          <a:xfrm>
            <a:off x="326880" y="5805360"/>
            <a:ext cx="86616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c. Grasos de Cadena larga: Sistema de transporte </a:t>
            </a:r>
            <a:r>
              <a:rPr b="1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LIPOPROTEÍ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Cuadro de texto 10"/>
          <p:cNvSpPr/>
          <p:nvPr/>
        </p:nvSpPr>
        <p:spPr>
          <a:xfrm>
            <a:off x="230040" y="3500280"/>
            <a:ext cx="5040360" cy="2128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MICELA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onoglicérid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G de cadena larg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olestero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Vitaminas liposolub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3" name="Grupo 63"/>
          <p:cNvGrpSpPr/>
          <p:nvPr/>
        </p:nvGrpSpPr>
        <p:grpSpPr>
          <a:xfrm>
            <a:off x="1943280" y="2400480"/>
            <a:ext cx="4119840" cy="3071880"/>
            <a:chOff x="1943280" y="2400480"/>
            <a:chExt cx="4119840" cy="3071880"/>
          </a:xfrm>
        </p:grpSpPr>
        <p:grpSp>
          <p:nvGrpSpPr>
            <p:cNvPr id="744" name="Grupo 20"/>
            <p:cNvGrpSpPr/>
            <p:nvPr/>
          </p:nvGrpSpPr>
          <p:grpSpPr>
            <a:xfrm>
              <a:off x="1943280" y="2421000"/>
              <a:ext cx="3608280" cy="2939760"/>
              <a:chOff x="1943280" y="2421000"/>
              <a:chExt cx="3608280" cy="2939760"/>
            </a:xfrm>
          </p:grpSpPr>
          <p:sp>
            <p:nvSpPr>
              <p:cNvPr id="745" name="Rectángulo 17"/>
              <p:cNvSpPr/>
              <p:nvPr/>
            </p:nvSpPr>
            <p:spPr>
              <a:xfrm>
                <a:off x="1943280" y="2421000"/>
                <a:ext cx="3456000" cy="293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8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GPDH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6" name="Rectángulo 19"/>
              <p:cNvSpPr/>
              <p:nvPr/>
            </p:nvSpPr>
            <p:spPr>
              <a:xfrm>
                <a:off x="5245560" y="2421000"/>
                <a:ext cx="306000" cy="2939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47" name="Forma libre 18"/>
            <p:cNvSpPr/>
            <p:nvPr/>
          </p:nvSpPr>
          <p:spPr>
            <a:xfrm rot="196800">
              <a:off x="5169240" y="2421000"/>
              <a:ext cx="807840" cy="3030480"/>
            </a:xfrm>
            <a:custGeom>
              <a:avLst/>
              <a:gdLst/>
              <a:ahLst/>
              <a:rect l="l" t="t" r="r" b="b"/>
              <a:pathLst>
                <a:path w="477" h="1637">
                  <a:moveTo>
                    <a:pt x="0" y="4"/>
                  </a:moveTo>
                  <a:cubicBezTo>
                    <a:pt x="82" y="7"/>
                    <a:pt x="166" y="0"/>
                    <a:pt x="247" y="13"/>
                  </a:cubicBezTo>
                  <a:cubicBezTo>
                    <a:pt x="266" y="16"/>
                    <a:pt x="201" y="40"/>
                    <a:pt x="210" y="59"/>
                  </a:cubicBezTo>
                  <a:cubicBezTo>
                    <a:pt x="168" y="84"/>
                    <a:pt x="113" y="73"/>
                    <a:pt x="64" y="77"/>
                  </a:cubicBezTo>
                  <a:cubicBezTo>
                    <a:pt x="19" y="122"/>
                    <a:pt x="32" y="136"/>
                    <a:pt x="73" y="178"/>
                  </a:cubicBezTo>
                  <a:cubicBezTo>
                    <a:pt x="154" y="160"/>
                    <a:pt x="154" y="160"/>
                    <a:pt x="256" y="168"/>
                  </a:cubicBezTo>
                  <a:cubicBezTo>
                    <a:pt x="253" y="177"/>
                    <a:pt x="255" y="190"/>
                    <a:pt x="247" y="196"/>
                  </a:cubicBezTo>
                  <a:cubicBezTo>
                    <a:pt x="212" y="221"/>
                    <a:pt x="106" y="221"/>
                    <a:pt x="82" y="223"/>
                  </a:cubicBezTo>
                  <a:cubicBezTo>
                    <a:pt x="100" y="305"/>
                    <a:pt x="75" y="260"/>
                    <a:pt x="192" y="278"/>
                  </a:cubicBezTo>
                  <a:cubicBezTo>
                    <a:pt x="217" y="282"/>
                    <a:pt x="265" y="296"/>
                    <a:pt x="265" y="296"/>
                  </a:cubicBezTo>
                  <a:cubicBezTo>
                    <a:pt x="202" y="392"/>
                    <a:pt x="251" y="350"/>
                    <a:pt x="82" y="360"/>
                  </a:cubicBezTo>
                  <a:cubicBezTo>
                    <a:pt x="117" y="457"/>
                    <a:pt x="176" y="393"/>
                    <a:pt x="265" y="415"/>
                  </a:cubicBezTo>
                  <a:cubicBezTo>
                    <a:pt x="274" y="421"/>
                    <a:pt x="309" y="459"/>
                    <a:pt x="311" y="470"/>
                  </a:cubicBezTo>
                  <a:cubicBezTo>
                    <a:pt x="313" y="481"/>
                    <a:pt x="267" y="450"/>
                    <a:pt x="256" y="452"/>
                  </a:cubicBezTo>
                  <a:cubicBezTo>
                    <a:pt x="190" y="463"/>
                    <a:pt x="159" y="504"/>
                    <a:pt x="92" y="507"/>
                  </a:cubicBezTo>
                  <a:cubicBezTo>
                    <a:pt x="119" y="588"/>
                    <a:pt x="237" y="537"/>
                    <a:pt x="311" y="552"/>
                  </a:cubicBezTo>
                  <a:cubicBezTo>
                    <a:pt x="290" y="636"/>
                    <a:pt x="210" y="602"/>
                    <a:pt x="119" y="607"/>
                  </a:cubicBezTo>
                  <a:cubicBezTo>
                    <a:pt x="105" y="634"/>
                    <a:pt x="215" y="653"/>
                    <a:pt x="247" y="671"/>
                  </a:cubicBezTo>
                  <a:cubicBezTo>
                    <a:pt x="279" y="689"/>
                    <a:pt x="314" y="705"/>
                    <a:pt x="311" y="717"/>
                  </a:cubicBezTo>
                  <a:cubicBezTo>
                    <a:pt x="308" y="733"/>
                    <a:pt x="261" y="735"/>
                    <a:pt x="229" y="744"/>
                  </a:cubicBezTo>
                  <a:cubicBezTo>
                    <a:pt x="197" y="753"/>
                    <a:pt x="115" y="763"/>
                    <a:pt x="119" y="772"/>
                  </a:cubicBezTo>
                  <a:cubicBezTo>
                    <a:pt x="91" y="856"/>
                    <a:pt x="203" y="794"/>
                    <a:pt x="256" y="799"/>
                  </a:cubicBezTo>
                  <a:cubicBezTo>
                    <a:pt x="302" y="814"/>
                    <a:pt x="300" y="830"/>
                    <a:pt x="284" y="872"/>
                  </a:cubicBezTo>
                  <a:cubicBezTo>
                    <a:pt x="241" y="869"/>
                    <a:pt x="189" y="918"/>
                    <a:pt x="146" y="918"/>
                  </a:cubicBezTo>
                  <a:cubicBezTo>
                    <a:pt x="137" y="918"/>
                    <a:pt x="123" y="918"/>
                    <a:pt x="119" y="927"/>
                  </a:cubicBezTo>
                  <a:cubicBezTo>
                    <a:pt x="106" y="954"/>
                    <a:pt x="144" y="962"/>
                    <a:pt x="156" y="964"/>
                  </a:cubicBezTo>
                  <a:cubicBezTo>
                    <a:pt x="186" y="969"/>
                    <a:pt x="217" y="969"/>
                    <a:pt x="247" y="973"/>
                  </a:cubicBezTo>
                  <a:cubicBezTo>
                    <a:pt x="284" y="978"/>
                    <a:pt x="311" y="964"/>
                    <a:pt x="311" y="964"/>
                  </a:cubicBezTo>
                  <a:cubicBezTo>
                    <a:pt x="248" y="1058"/>
                    <a:pt x="314" y="1062"/>
                    <a:pt x="174" y="1074"/>
                  </a:cubicBezTo>
                  <a:cubicBezTo>
                    <a:pt x="211" y="1130"/>
                    <a:pt x="257" y="1113"/>
                    <a:pt x="329" y="1119"/>
                  </a:cubicBezTo>
                  <a:cubicBezTo>
                    <a:pt x="338" y="1122"/>
                    <a:pt x="353" y="1119"/>
                    <a:pt x="357" y="1128"/>
                  </a:cubicBezTo>
                  <a:cubicBezTo>
                    <a:pt x="366" y="1145"/>
                    <a:pt x="337" y="1166"/>
                    <a:pt x="329" y="1174"/>
                  </a:cubicBezTo>
                  <a:cubicBezTo>
                    <a:pt x="254" y="1167"/>
                    <a:pt x="209" y="1155"/>
                    <a:pt x="137" y="1165"/>
                  </a:cubicBezTo>
                  <a:cubicBezTo>
                    <a:pt x="166" y="1313"/>
                    <a:pt x="304" y="1169"/>
                    <a:pt x="412" y="1238"/>
                  </a:cubicBezTo>
                  <a:cubicBezTo>
                    <a:pt x="365" y="1283"/>
                    <a:pt x="339" y="1263"/>
                    <a:pt x="265" y="1256"/>
                  </a:cubicBezTo>
                  <a:cubicBezTo>
                    <a:pt x="237" y="1250"/>
                    <a:pt x="182" y="1234"/>
                    <a:pt x="156" y="1256"/>
                  </a:cubicBezTo>
                  <a:cubicBezTo>
                    <a:pt x="133" y="1275"/>
                    <a:pt x="184" y="1310"/>
                    <a:pt x="192" y="1311"/>
                  </a:cubicBezTo>
                  <a:cubicBezTo>
                    <a:pt x="250" y="1319"/>
                    <a:pt x="308" y="1317"/>
                    <a:pt x="366" y="1320"/>
                  </a:cubicBezTo>
                  <a:cubicBezTo>
                    <a:pt x="356" y="1363"/>
                    <a:pt x="352" y="1370"/>
                    <a:pt x="311" y="1384"/>
                  </a:cubicBezTo>
                  <a:cubicBezTo>
                    <a:pt x="227" y="1363"/>
                    <a:pt x="259" y="1380"/>
                    <a:pt x="210" y="1348"/>
                  </a:cubicBezTo>
                  <a:cubicBezTo>
                    <a:pt x="169" y="1354"/>
                    <a:pt x="119" y="1339"/>
                    <a:pt x="156" y="1394"/>
                  </a:cubicBezTo>
                  <a:cubicBezTo>
                    <a:pt x="202" y="1462"/>
                    <a:pt x="320" y="1418"/>
                    <a:pt x="402" y="1421"/>
                  </a:cubicBezTo>
                  <a:cubicBezTo>
                    <a:pt x="391" y="1466"/>
                    <a:pt x="381" y="1471"/>
                    <a:pt x="338" y="1485"/>
                  </a:cubicBezTo>
                  <a:cubicBezTo>
                    <a:pt x="285" y="1478"/>
                    <a:pt x="243" y="1464"/>
                    <a:pt x="192" y="1476"/>
                  </a:cubicBezTo>
                  <a:cubicBezTo>
                    <a:pt x="217" y="1576"/>
                    <a:pt x="343" y="1536"/>
                    <a:pt x="430" y="1540"/>
                  </a:cubicBezTo>
                  <a:cubicBezTo>
                    <a:pt x="421" y="1549"/>
                    <a:pt x="477" y="1573"/>
                    <a:pt x="439" y="1576"/>
                  </a:cubicBezTo>
                  <a:cubicBezTo>
                    <a:pt x="357" y="1582"/>
                    <a:pt x="274" y="1583"/>
                    <a:pt x="192" y="1586"/>
                  </a:cubicBezTo>
                  <a:cubicBezTo>
                    <a:pt x="204" y="1605"/>
                    <a:pt x="223" y="1637"/>
                    <a:pt x="247" y="1613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Rounded MT Bold"/>
              </a:rPr>
              <a:t>Absorción de los productos de la digestión de  Triglicéri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9" name="Grupo 28"/>
          <p:cNvGrpSpPr/>
          <p:nvPr/>
        </p:nvGrpSpPr>
        <p:grpSpPr>
          <a:xfrm>
            <a:off x="2050920" y="5500800"/>
            <a:ext cx="3681720" cy="449280"/>
            <a:chOff x="2050920" y="5500800"/>
            <a:chExt cx="3681720" cy="449280"/>
          </a:xfrm>
        </p:grpSpPr>
        <p:grpSp>
          <p:nvGrpSpPr>
            <p:cNvPr id="750" name="Grupo 26"/>
            <p:cNvGrpSpPr/>
            <p:nvPr/>
          </p:nvGrpSpPr>
          <p:grpSpPr>
            <a:xfrm>
              <a:off x="2050920" y="5516640"/>
              <a:ext cx="3384720" cy="433440"/>
              <a:chOff x="2050920" y="5516640"/>
              <a:chExt cx="3384720" cy="433440"/>
            </a:xfrm>
          </p:grpSpPr>
          <p:sp>
            <p:nvSpPr>
              <p:cNvPr id="751" name="Línea 24"/>
              <p:cNvSpPr/>
              <p:nvPr/>
            </p:nvSpPr>
            <p:spPr>
              <a:xfrm>
                <a:off x="2050920" y="5516640"/>
                <a:ext cx="0" cy="43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2" name="Línea 25"/>
              <p:cNvSpPr/>
              <p:nvPr/>
            </p:nvSpPr>
            <p:spPr>
              <a:xfrm>
                <a:off x="2050920" y="5516640"/>
                <a:ext cx="338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53" name="Forma libre 27"/>
            <p:cNvSpPr/>
            <p:nvPr/>
          </p:nvSpPr>
          <p:spPr>
            <a:xfrm>
              <a:off x="5311800" y="5500800"/>
              <a:ext cx="420840" cy="377640"/>
            </a:xfrm>
            <a:custGeom>
              <a:avLst/>
              <a:gdLst/>
              <a:ahLst/>
              <a:rect l="l" t="t" r="r" b="b"/>
              <a:pathLst>
                <a:path w="265" h="238">
                  <a:moveTo>
                    <a:pt x="28" y="0"/>
                  </a:moveTo>
                  <a:cubicBezTo>
                    <a:pt x="31" y="0"/>
                    <a:pt x="166" y="0"/>
                    <a:pt x="192" y="9"/>
                  </a:cubicBezTo>
                  <a:cubicBezTo>
                    <a:pt x="198" y="15"/>
                    <a:pt x="214" y="19"/>
                    <a:pt x="211" y="28"/>
                  </a:cubicBezTo>
                  <a:cubicBezTo>
                    <a:pt x="208" y="37"/>
                    <a:pt x="193" y="36"/>
                    <a:pt x="183" y="37"/>
                  </a:cubicBezTo>
                  <a:cubicBezTo>
                    <a:pt x="134" y="42"/>
                    <a:pt x="86" y="43"/>
                    <a:pt x="37" y="46"/>
                  </a:cubicBezTo>
                  <a:cubicBezTo>
                    <a:pt x="65" y="129"/>
                    <a:pt x="103" y="94"/>
                    <a:pt x="211" y="101"/>
                  </a:cubicBezTo>
                  <a:cubicBezTo>
                    <a:pt x="148" y="161"/>
                    <a:pt x="248" y="73"/>
                    <a:pt x="46" y="128"/>
                  </a:cubicBezTo>
                  <a:cubicBezTo>
                    <a:pt x="37" y="130"/>
                    <a:pt x="54" y="168"/>
                    <a:pt x="83" y="174"/>
                  </a:cubicBezTo>
                  <a:cubicBezTo>
                    <a:pt x="119" y="181"/>
                    <a:pt x="156" y="180"/>
                    <a:pt x="192" y="183"/>
                  </a:cubicBezTo>
                  <a:cubicBezTo>
                    <a:pt x="210" y="189"/>
                    <a:pt x="265" y="195"/>
                    <a:pt x="247" y="201"/>
                  </a:cubicBezTo>
                  <a:cubicBezTo>
                    <a:pt x="185" y="222"/>
                    <a:pt x="229" y="209"/>
                    <a:pt x="110" y="220"/>
                  </a:cubicBezTo>
                  <a:cubicBezTo>
                    <a:pt x="75" y="232"/>
                    <a:pt x="0" y="238"/>
                    <a:pt x="0" y="238"/>
                  </a:cubicBezTo>
                  <a:lnTo>
                    <a:pt x="33" y="19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4" name="Grupo 62"/>
          <p:cNvGrpSpPr/>
          <p:nvPr/>
        </p:nvGrpSpPr>
        <p:grpSpPr>
          <a:xfrm>
            <a:off x="1943280" y="1844640"/>
            <a:ext cx="3681000" cy="433440"/>
            <a:chOff x="1943280" y="1844640"/>
            <a:chExt cx="3681000" cy="433440"/>
          </a:xfrm>
        </p:grpSpPr>
        <p:sp>
          <p:nvSpPr>
            <p:cNvPr id="755" name="Línea 31"/>
            <p:cNvSpPr/>
            <p:nvPr/>
          </p:nvSpPr>
          <p:spPr>
            <a:xfrm>
              <a:off x="1943280" y="1844640"/>
              <a:ext cx="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6" name="Línea 32"/>
            <p:cNvSpPr/>
            <p:nvPr/>
          </p:nvSpPr>
          <p:spPr>
            <a:xfrm>
              <a:off x="1943280" y="2260440"/>
              <a:ext cx="33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" name="Forma libre 33"/>
            <p:cNvSpPr/>
            <p:nvPr/>
          </p:nvSpPr>
          <p:spPr>
            <a:xfrm>
              <a:off x="5203800" y="1882800"/>
              <a:ext cx="420480" cy="377640"/>
            </a:xfrm>
            <a:custGeom>
              <a:avLst/>
              <a:gdLst/>
              <a:ahLst/>
              <a:rect l="l" t="t" r="r" b="b"/>
              <a:pathLst>
                <a:path w="265" h="238">
                  <a:moveTo>
                    <a:pt x="28" y="0"/>
                  </a:moveTo>
                  <a:cubicBezTo>
                    <a:pt x="31" y="0"/>
                    <a:pt x="166" y="0"/>
                    <a:pt x="192" y="9"/>
                  </a:cubicBezTo>
                  <a:cubicBezTo>
                    <a:pt x="198" y="15"/>
                    <a:pt x="214" y="19"/>
                    <a:pt x="211" y="28"/>
                  </a:cubicBezTo>
                  <a:cubicBezTo>
                    <a:pt x="208" y="37"/>
                    <a:pt x="193" y="36"/>
                    <a:pt x="183" y="37"/>
                  </a:cubicBezTo>
                  <a:cubicBezTo>
                    <a:pt x="134" y="42"/>
                    <a:pt x="86" y="43"/>
                    <a:pt x="37" y="46"/>
                  </a:cubicBezTo>
                  <a:cubicBezTo>
                    <a:pt x="65" y="129"/>
                    <a:pt x="103" y="94"/>
                    <a:pt x="211" y="101"/>
                  </a:cubicBezTo>
                  <a:cubicBezTo>
                    <a:pt x="148" y="161"/>
                    <a:pt x="248" y="73"/>
                    <a:pt x="46" y="128"/>
                  </a:cubicBezTo>
                  <a:cubicBezTo>
                    <a:pt x="37" y="130"/>
                    <a:pt x="54" y="168"/>
                    <a:pt x="83" y="174"/>
                  </a:cubicBezTo>
                  <a:cubicBezTo>
                    <a:pt x="119" y="181"/>
                    <a:pt x="156" y="180"/>
                    <a:pt x="192" y="183"/>
                  </a:cubicBezTo>
                  <a:cubicBezTo>
                    <a:pt x="210" y="189"/>
                    <a:pt x="265" y="195"/>
                    <a:pt x="247" y="201"/>
                  </a:cubicBezTo>
                  <a:cubicBezTo>
                    <a:pt x="185" y="222"/>
                    <a:pt x="229" y="209"/>
                    <a:pt x="110" y="220"/>
                  </a:cubicBezTo>
                  <a:cubicBezTo>
                    <a:pt x="75" y="232"/>
                    <a:pt x="0" y="238"/>
                    <a:pt x="0" y="238"/>
                  </a:cubicBezTo>
                  <a:lnTo>
                    <a:pt x="33" y="19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8" name="Cuadro de texto 35"/>
          <p:cNvSpPr/>
          <p:nvPr/>
        </p:nvSpPr>
        <p:spPr>
          <a:xfrm>
            <a:off x="0" y="2276640"/>
            <a:ext cx="208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ESPACIO INTERSTICI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Cuadro de texto 36"/>
          <p:cNvSpPr/>
          <p:nvPr/>
        </p:nvSpPr>
        <p:spPr>
          <a:xfrm>
            <a:off x="6119640" y="234936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LUM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0" name="Grupo 39"/>
          <p:cNvGrpSpPr/>
          <p:nvPr/>
        </p:nvGrpSpPr>
        <p:grpSpPr>
          <a:xfrm>
            <a:off x="2411280" y="2567160"/>
            <a:ext cx="2951280" cy="398880"/>
            <a:chOff x="2411280" y="2567160"/>
            <a:chExt cx="2951280" cy="398880"/>
          </a:xfrm>
        </p:grpSpPr>
        <p:sp>
          <p:nvSpPr>
            <p:cNvPr id="761" name="Cuadro de texto 37"/>
            <p:cNvSpPr/>
            <p:nvPr/>
          </p:nvSpPr>
          <p:spPr>
            <a:xfrm>
              <a:off x="2411280" y="2567160"/>
              <a:ext cx="295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DHAP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Glicólisi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" name="Línea 38"/>
            <p:cNvSpPr/>
            <p:nvPr/>
          </p:nvSpPr>
          <p:spPr>
            <a:xfrm flipH="1">
              <a:off x="3346560" y="2854440"/>
              <a:ext cx="54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3" name="Elipse 42"/>
          <p:cNvSpPr/>
          <p:nvPr/>
        </p:nvSpPr>
        <p:spPr>
          <a:xfrm>
            <a:off x="1042920" y="3500280"/>
            <a:ext cx="792360" cy="720720"/>
          </a:xfrm>
          <a:prstGeom prst="ellipse">
            <a:avLst/>
          </a:prstGeom>
          <a:solidFill>
            <a:srgbClr val="ffca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4" name="Grupo 64"/>
          <p:cNvGrpSpPr/>
          <p:nvPr/>
        </p:nvGrpSpPr>
        <p:grpSpPr>
          <a:xfrm>
            <a:off x="252360" y="4941720"/>
            <a:ext cx="8244000" cy="1808280"/>
            <a:chOff x="252360" y="4941720"/>
            <a:chExt cx="8244000" cy="1808280"/>
          </a:xfrm>
        </p:grpSpPr>
        <p:sp>
          <p:nvSpPr>
            <p:cNvPr id="765" name="Cuadro de texto 40"/>
            <p:cNvSpPr/>
            <p:nvPr/>
          </p:nvSpPr>
          <p:spPr>
            <a:xfrm>
              <a:off x="252360" y="4941720"/>
              <a:ext cx="8244000" cy="12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c.Grasos                                                               Ac. Gras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&lt; 10 C                                                                                               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	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&lt; 10 C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" name="Línea 41"/>
            <p:cNvSpPr/>
            <p:nvPr/>
          </p:nvSpPr>
          <p:spPr>
            <a:xfrm flipH="1">
              <a:off x="1727280" y="5230800"/>
              <a:ext cx="446544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" name="Línea 43"/>
            <p:cNvSpPr/>
            <p:nvPr/>
          </p:nvSpPr>
          <p:spPr>
            <a:xfrm>
              <a:off x="1187280" y="5445000"/>
              <a:ext cx="0" cy="7207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Cuadro de texto 44"/>
            <p:cNvSpPr/>
            <p:nvPr/>
          </p:nvSpPr>
          <p:spPr>
            <a:xfrm>
              <a:off x="539640" y="6381720"/>
              <a:ext cx="14400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Vena port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9" name="Cuadro de texto 45"/>
          <p:cNvSpPr/>
          <p:nvPr/>
        </p:nvSpPr>
        <p:spPr>
          <a:xfrm>
            <a:off x="179280" y="3213000"/>
            <a:ext cx="7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Linf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Línea 46"/>
          <p:cNvSpPr/>
          <p:nvPr/>
        </p:nvSpPr>
        <p:spPr>
          <a:xfrm flipH="1" flipV="1">
            <a:off x="610920" y="364464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Línea 49"/>
          <p:cNvSpPr/>
          <p:nvPr/>
        </p:nvSpPr>
        <p:spPr>
          <a:xfrm flipH="1">
            <a:off x="2626920" y="3176640"/>
            <a:ext cx="1800" cy="682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Autoforma 54"/>
          <p:cNvSpPr/>
          <p:nvPr/>
        </p:nvSpPr>
        <p:spPr>
          <a:xfrm rot="1471200">
            <a:off x="2843280" y="3716280"/>
            <a:ext cx="792000" cy="360360"/>
          </a:xfrm>
          <a:custGeom>
            <a:avLst/>
            <a:gdLst>
              <a:gd name="textAreaLeft" fmla="*/ 79200 w 792000"/>
              <a:gd name="textAreaRight" fmla="*/ 712800 w 792000"/>
              <a:gd name="textAreaTop" fmla="*/ 205920 h 360360"/>
              <a:gd name="textAreaBottom" fmla="*/ 308880 h 3603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Elipse 55"/>
          <p:cNvSpPr/>
          <p:nvPr/>
        </p:nvSpPr>
        <p:spPr>
          <a:xfrm>
            <a:off x="2124000" y="4365720"/>
            <a:ext cx="505080" cy="504720"/>
          </a:xfrm>
          <a:prstGeom prst="ellipse">
            <a:avLst/>
          </a:prstGeom>
          <a:solidFill>
            <a:srgbClr val="ffca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Línea 59"/>
          <p:cNvSpPr/>
          <p:nvPr/>
        </p:nvSpPr>
        <p:spPr>
          <a:xfrm flipH="1" flipV="1">
            <a:off x="1834920" y="4149720"/>
            <a:ext cx="360360" cy="287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5" name="Grupo 66"/>
          <p:cNvGrpSpPr/>
          <p:nvPr/>
        </p:nvGrpSpPr>
        <p:grpSpPr>
          <a:xfrm>
            <a:off x="2411280" y="2997360"/>
            <a:ext cx="5185080" cy="1655640"/>
            <a:chOff x="2411280" y="2997360"/>
            <a:chExt cx="5185080" cy="1655640"/>
          </a:xfrm>
        </p:grpSpPr>
        <p:sp>
          <p:nvSpPr>
            <p:cNvPr id="776" name="Elipse 53"/>
            <p:cNvSpPr/>
            <p:nvPr/>
          </p:nvSpPr>
          <p:spPr>
            <a:xfrm>
              <a:off x="4427640" y="2997360"/>
              <a:ext cx="431640" cy="3603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77" name="Grupo 65"/>
            <p:cNvGrpSpPr/>
            <p:nvPr/>
          </p:nvGrpSpPr>
          <p:grpSpPr>
            <a:xfrm>
              <a:off x="2411280" y="3213000"/>
              <a:ext cx="5185080" cy="1440000"/>
              <a:chOff x="2411280" y="3213000"/>
              <a:chExt cx="5185080" cy="1440000"/>
            </a:xfrm>
          </p:grpSpPr>
          <p:sp>
            <p:nvSpPr>
              <p:cNvPr id="778" name="Elipse 60"/>
              <p:cNvSpPr/>
              <p:nvPr/>
            </p:nvSpPr>
            <p:spPr>
              <a:xfrm>
                <a:off x="6156360" y="3213000"/>
                <a:ext cx="1150920" cy="144000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9" name="Cuadro de texto 48"/>
              <p:cNvSpPr/>
              <p:nvPr/>
            </p:nvSpPr>
            <p:spPr>
              <a:xfrm>
                <a:off x="2556000" y="3429000"/>
                <a:ext cx="5040360" cy="58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6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          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cil-CoA</a:t>
                </a: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        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G</a:t>
                </a: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                     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G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6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                                                                 </a:t>
                </a:r>
                <a:r>
                  <a:rPr b="1" lang="es-ES_tradnl" sz="1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&gt;10C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0" name="Cuadro de texto 47"/>
              <p:cNvSpPr/>
              <p:nvPr/>
            </p:nvSpPr>
            <p:spPr>
              <a:xfrm>
                <a:off x="2411280" y="4005360"/>
                <a:ext cx="504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TAG</a:t>
                </a:r>
                <a:r>
                  <a:rPr b="1" lang="es-ES_tradnl" sz="20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 </a:t>
                </a: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               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2 MAG                        2 MAG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1" name="Línea 50"/>
              <p:cNvSpPr/>
              <p:nvPr/>
            </p:nvSpPr>
            <p:spPr>
              <a:xfrm flipH="1">
                <a:off x="3274560" y="4219560"/>
                <a:ext cx="647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2" name="Línea 51"/>
              <p:cNvSpPr/>
              <p:nvPr/>
            </p:nvSpPr>
            <p:spPr>
              <a:xfrm flipH="1">
                <a:off x="4373640" y="3568680"/>
                <a:ext cx="358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3" name="Línea 61"/>
              <p:cNvSpPr/>
              <p:nvPr/>
            </p:nvSpPr>
            <p:spPr>
              <a:xfrm flipH="1">
                <a:off x="5148000" y="4221000"/>
                <a:ext cx="93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4" name="Línea 52"/>
              <p:cNvSpPr/>
              <p:nvPr/>
            </p:nvSpPr>
            <p:spPr>
              <a:xfrm flipH="1">
                <a:off x="5292720" y="3429000"/>
                <a:ext cx="936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85" name="1 CuadroTexto"/>
          <p:cNvSpPr/>
          <p:nvPr/>
        </p:nvSpPr>
        <p:spPr>
          <a:xfrm>
            <a:off x="5543280" y="6354720"/>
            <a:ext cx="354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  <a:ea typeface="Arial"/>
              </a:rPr>
              <a:t>TK: tioquinasas o Acil CoA sintetas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1 Rectángulo"/>
          <p:cNvSpPr/>
          <p:nvPr/>
        </p:nvSpPr>
        <p:spPr>
          <a:xfrm>
            <a:off x="179280" y="260280"/>
            <a:ext cx="86407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INTRODUCC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Los lípidos del organismo se hallan en un estado dinámico produciéndose constantemente variaciones en su composición que van a depender del metabolismo celul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	</a:t>
            </a:r>
            <a:r>
              <a:rPr b="1" lang="es-AR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-Son oxidados para obtener energí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	</a:t>
            </a:r>
            <a:r>
              <a:rPr b="1" lang="es-AR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-Utilizados para la síntesis de constituyentes esenciales de los tejid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	</a:t>
            </a:r>
            <a:r>
              <a:rPr b="1" lang="es-AR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-Almacenados como sustancia de reserva en el tejido adipos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Los lípidos presentes en la alimentación se encuentran generalmente en mayor concentración en aceites, manteca, yema de huevo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En general están presentes como triglicéridos (grasas neutras), ácidos grasos y sus derivados, fosfolípidos, glucolípidos, esteroles y caroteno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/>
          </p:nvPr>
        </p:nvSpPr>
        <p:spPr>
          <a:xfrm>
            <a:off x="685440" y="2057040"/>
            <a:ext cx="8062920" cy="4684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Ácidos grasos de cadena corta (6-10 C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s-E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s-E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s-ES" sz="2600" spc="-1" strike="noStrike">
                <a:solidFill>
                  <a:srgbClr val="ff0000"/>
                </a:solidFill>
                <a:latin typeface="Calibri"/>
              </a:rPr>
              <a:t>Albúmin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-  Ácidos grasos de cadena larga (12-18 C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0000"/>
                </a:solidFill>
                <a:latin typeface="Calibri"/>
              </a:rPr>
              <a:t>Re-síntesis de TG        </a:t>
            </a:r>
            <a:r>
              <a:rPr b="1" lang="es-E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s-ES" sz="2600" spc="-1" strike="noStrike">
                <a:solidFill>
                  <a:srgbClr val="ff0000"/>
                </a:solidFill>
                <a:latin typeface="Calibri"/>
              </a:rPr>
              <a:t>Q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Cuadro de texto 2"/>
          <p:cNvSpPr/>
          <p:nvPr/>
        </p:nvSpPr>
        <p:spPr>
          <a:xfrm>
            <a:off x="755640" y="476280"/>
            <a:ext cx="7489800" cy="106884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DESTINO DE LOS LIPIDOS ABSORBIDOS EN EL ENTEROCI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Elipse 5"/>
          <p:cNvSpPr/>
          <p:nvPr/>
        </p:nvSpPr>
        <p:spPr>
          <a:xfrm>
            <a:off x="5262480" y="5064120"/>
            <a:ext cx="1224000" cy="574560"/>
          </a:xfrm>
          <a:prstGeom prst="ellipse">
            <a:avLst/>
          </a:prstGeom>
          <a:solidFill>
            <a:srgbClr val="c3d6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Linf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Elipse 6"/>
          <p:cNvSpPr/>
          <p:nvPr/>
        </p:nvSpPr>
        <p:spPr>
          <a:xfrm>
            <a:off x="2023920" y="2755800"/>
            <a:ext cx="1224000" cy="574920"/>
          </a:xfrm>
          <a:prstGeom prst="ellipse">
            <a:avLst/>
          </a:prstGeom>
          <a:solidFill>
            <a:srgbClr val="c3d6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Sang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Línea 4"/>
          <p:cNvSpPr/>
          <p:nvPr/>
        </p:nvSpPr>
        <p:spPr>
          <a:xfrm>
            <a:off x="3422520" y="2492280"/>
            <a:ext cx="0" cy="9493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Línea 5"/>
          <p:cNvSpPr/>
          <p:nvPr/>
        </p:nvSpPr>
        <p:spPr>
          <a:xfrm>
            <a:off x="4284720" y="3716280"/>
            <a:ext cx="12952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Línea 6"/>
          <p:cNvSpPr/>
          <p:nvPr/>
        </p:nvSpPr>
        <p:spPr>
          <a:xfrm>
            <a:off x="2023920" y="4653000"/>
            <a:ext cx="0" cy="720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Línea 4"/>
          <p:cNvSpPr/>
          <p:nvPr/>
        </p:nvSpPr>
        <p:spPr>
          <a:xfrm>
            <a:off x="5435640" y="5821200"/>
            <a:ext cx="10810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Línea 7"/>
          <p:cNvSpPr/>
          <p:nvPr/>
        </p:nvSpPr>
        <p:spPr>
          <a:xfrm>
            <a:off x="3247920" y="5821200"/>
            <a:ext cx="7477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Cuadro de texto 11"/>
          <p:cNvSpPr/>
          <p:nvPr/>
        </p:nvSpPr>
        <p:spPr>
          <a:xfrm>
            <a:off x="6012000" y="3513240"/>
            <a:ext cx="1655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HÍGA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Cuadro de texto 13"/>
          <p:cNvSpPr/>
          <p:nvPr/>
        </p:nvSpPr>
        <p:spPr>
          <a:xfrm>
            <a:off x="6659640" y="5586480"/>
            <a:ext cx="1512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EJI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Rounded MT Bold"/>
              </a:rPr>
              <a:t>Biosíntesis de Acil-Coenzima 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8" name="Grupo 7"/>
          <p:cNvGrpSpPr/>
          <p:nvPr/>
        </p:nvGrpSpPr>
        <p:grpSpPr>
          <a:xfrm>
            <a:off x="900000" y="2827440"/>
            <a:ext cx="7417080" cy="459720"/>
            <a:chOff x="900000" y="2827440"/>
            <a:chExt cx="7417080" cy="459720"/>
          </a:xfrm>
        </p:grpSpPr>
        <p:sp>
          <p:nvSpPr>
            <p:cNvPr id="799" name="Cuadro de texto 4"/>
            <p:cNvSpPr/>
            <p:nvPr/>
          </p:nvSpPr>
          <p:spPr>
            <a:xfrm>
              <a:off x="900000" y="2827440"/>
              <a:ext cx="741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CIDO GRASO + COA</a:t>
              </a:r>
              <a:r>
                <a:rPr b="1" lang="es-ES_tradnl" sz="24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-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H                    ACIL-Co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0" name="Línea 5"/>
            <p:cNvSpPr/>
            <p:nvPr/>
          </p:nvSpPr>
          <p:spPr>
            <a:xfrm>
              <a:off x="4932360" y="3114720"/>
              <a:ext cx="10810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1" name="Cuadro de texto 6"/>
          <p:cNvSpPr/>
          <p:nvPr/>
        </p:nvSpPr>
        <p:spPr>
          <a:xfrm rot="18873000">
            <a:off x="4837320" y="215568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ioquina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Cuadro de texto 8"/>
          <p:cNvSpPr/>
          <p:nvPr/>
        </p:nvSpPr>
        <p:spPr>
          <a:xfrm>
            <a:off x="4284720" y="3357720"/>
            <a:ext cx="2376360" cy="368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ATP         AMP  + PP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Autoforma 9"/>
          <p:cNvSpPr/>
          <p:nvPr/>
        </p:nvSpPr>
        <p:spPr>
          <a:xfrm>
            <a:off x="5148360" y="3141720"/>
            <a:ext cx="431640" cy="287280"/>
          </a:xfrm>
          <a:custGeom>
            <a:avLst/>
            <a:gdLst>
              <a:gd name="textAreaLeft" fmla="*/ 75600 w 431640"/>
              <a:gd name="textAreaRight" fmla="*/ 313200 w 43164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4" name="Grupo 15"/>
          <p:cNvGrpSpPr/>
          <p:nvPr/>
        </p:nvGrpSpPr>
        <p:grpSpPr>
          <a:xfrm>
            <a:off x="179280" y="4599360"/>
            <a:ext cx="8820360" cy="891000"/>
            <a:chOff x="179280" y="4599360"/>
            <a:chExt cx="8820360" cy="891000"/>
          </a:xfrm>
        </p:grpSpPr>
        <p:sp>
          <p:nvSpPr>
            <p:cNvPr id="805" name="Cuadro de texto 10"/>
            <p:cNvSpPr/>
            <p:nvPr/>
          </p:nvSpPr>
          <p:spPr>
            <a:xfrm>
              <a:off x="179280" y="4724280"/>
              <a:ext cx="8820360" cy="76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      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O                                                        O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R-CH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–C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O</a:t>
              </a:r>
              <a:r>
                <a:rPr b="0" lang="es-ES_tradnl" sz="2400" spc="-1" strike="noStrike" baseline="30000">
                  <a:solidFill>
                    <a:srgbClr val="000000"/>
                  </a:solidFill>
                  <a:latin typeface="Times New Roman"/>
                  <a:ea typeface="Arial"/>
                </a:rPr>
                <a:t>-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 CoA</a:t>
              </a:r>
              <a:r>
                <a:rPr b="0" lang="es-ES_tradnl" sz="24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-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H +ATP          R-CH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–C</a:t>
              </a:r>
              <a:r>
                <a:rPr b="0" lang="es-ES_tradnl" sz="24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-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-CoA + AMP + PPi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Elipse 11"/>
            <p:cNvSpPr/>
            <p:nvPr/>
          </p:nvSpPr>
          <p:spPr>
            <a:xfrm rot="19201800">
              <a:off x="1258920" y="4725720"/>
              <a:ext cx="576360" cy="503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" name="Línea 13"/>
            <p:cNvSpPr/>
            <p:nvPr/>
          </p:nvSpPr>
          <p:spPr>
            <a:xfrm>
              <a:off x="4067280" y="5300640"/>
              <a:ext cx="7207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" name="Elipse 14"/>
            <p:cNvSpPr/>
            <p:nvPr/>
          </p:nvSpPr>
          <p:spPr>
            <a:xfrm rot="19201800">
              <a:off x="5796000" y="4725720"/>
              <a:ext cx="576360" cy="503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Cuadro de texto 4"/>
          <p:cNvSpPr/>
          <p:nvPr/>
        </p:nvSpPr>
        <p:spPr>
          <a:xfrm>
            <a:off x="755640" y="260280"/>
            <a:ext cx="7467480" cy="5814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Biosíntesis de Triglicéri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0" name="Grupo 18"/>
          <p:cNvGrpSpPr/>
          <p:nvPr/>
        </p:nvGrpSpPr>
        <p:grpSpPr>
          <a:xfrm>
            <a:off x="142920" y="836640"/>
            <a:ext cx="9001080" cy="1768320"/>
            <a:chOff x="142920" y="836640"/>
            <a:chExt cx="9001080" cy="1768320"/>
          </a:xfrm>
        </p:grpSpPr>
        <p:pic>
          <p:nvPicPr>
            <p:cNvPr id="811" name="Imagen 5" descr="deposito invitrogen002"/>
            <p:cNvPicPr/>
            <p:nvPr/>
          </p:nvPicPr>
          <p:blipFill>
            <a:blip r:embed="rId1"/>
            <a:srcRect l="1274" t="2643" r="2091" b="77633"/>
            <a:stretch/>
          </p:blipFill>
          <p:spPr>
            <a:xfrm>
              <a:off x="142920" y="836640"/>
              <a:ext cx="9001080" cy="176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2" name="Cuadro de texto 10"/>
            <p:cNvSpPr/>
            <p:nvPr/>
          </p:nvSpPr>
          <p:spPr>
            <a:xfrm>
              <a:off x="5580000" y="1628640"/>
              <a:ext cx="259236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Glicerol quinas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3" name="Rectángulo 12"/>
          <p:cNvSpPr/>
          <p:nvPr/>
        </p:nvSpPr>
        <p:spPr>
          <a:xfrm>
            <a:off x="4427640" y="4149720"/>
            <a:ext cx="431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ángulo 13"/>
          <p:cNvSpPr/>
          <p:nvPr/>
        </p:nvSpPr>
        <p:spPr>
          <a:xfrm>
            <a:off x="4500720" y="2852640"/>
            <a:ext cx="4316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Rectángulo 14"/>
          <p:cNvSpPr/>
          <p:nvPr/>
        </p:nvSpPr>
        <p:spPr>
          <a:xfrm>
            <a:off x="4572000" y="5661000"/>
            <a:ext cx="4316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6" name="Grupo 23"/>
          <p:cNvGrpSpPr/>
          <p:nvPr/>
        </p:nvGrpSpPr>
        <p:grpSpPr>
          <a:xfrm>
            <a:off x="2987640" y="2565360"/>
            <a:ext cx="4032360" cy="4035600"/>
            <a:chOff x="2987640" y="2565360"/>
            <a:chExt cx="4032360" cy="4035600"/>
          </a:xfrm>
        </p:grpSpPr>
        <p:pic>
          <p:nvPicPr>
            <p:cNvPr id="817" name="Imagen 6" descr="deposito invitrogen002"/>
            <p:cNvPicPr/>
            <p:nvPr/>
          </p:nvPicPr>
          <p:blipFill>
            <a:blip r:embed="rId2"/>
            <a:srcRect l="30802" t="21852" r="30736" b="30711"/>
            <a:stretch/>
          </p:blipFill>
          <p:spPr>
            <a:xfrm>
              <a:off x="2987640" y="2565360"/>
              <a:ext cx="3398760" cy="403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8" name="Cuadro de texto 7"/>
            <p:cNvSpPr/>
            <p:nvPr/>
          </p:nvSpPr>
          <p:spPr>
            <a:xfrm>
              <a:off x="4643280" y="2852640"/>
              <a:ext cx="237672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</a:t>
              </a: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cil transferas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" name="Cuadro de texto 9"/>
            <p:cNvSpPr/>
            <p:nvPr/>
          </p:nvSpPr>
          <p:spPr>
            <a:xfrm>
              <a:off x="4716360" y="5589720"/>
              <a:ext cx="165600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</a:t>
              </a: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osfatas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" name="Autoforma 11"/>
            <p:cNvSpPr/>
            <p:nvPr/>
          </p:nvSpPr>
          <p:spPr>
            <a:xfrm>
              <a:off x="4500720" y="2852640"/>
              <a:ext cx="287280" cy="505080"/>
            </a:xfrm>
            <a:custGeom>
              <a:avLst/>
              <a:gdLst>
                <a:gd name="textAreaLeft" fmla="*/ 38520 w 287280"/>
                <a:gd name="textAreaRight" fmla="*/ 248760 w 287280"/>
                <a:gd name="textAreaTop" fmla="*/ 88200 h 505080"/>
                <a:gd name="textAreaBottom" fmla="*/ 366120 h 50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Cuadro de texto 20"/>
            <p:cNvSpPr/>
            <p:nvPr/>
          </p:nvSpPr>
          <p:spPr>
            <a:xfrm>
              <a:off x="4643280" y="4219560"/>
              <a:ext cx="237672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</a:t>
              </a: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cil transferas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" name="Autoforma 21"/>
            <p:cNvSpPr/>
            <p:nvPr/>
          </p:nvSpPr>
          <p:spPr>
            <a:xfrm>
              <a:off x="4500720" y="4219560"/>
              <a:ext cx="287280" cy="504720"/>
            </a:xfrm>
            <a:custGeom>
              <a:avLst/>
              <a:gdLst>
                <a:gd name="textAreaLeft" fmla="*/ 38520 w 287280"/>
                <a:gd name="textAreaRight" fmla="*/ 248760 w 287280"/>
                <a:gd name="textAreaTop" fmla="*/ 88200 h 504720"/>
                <a:gd name="textAreaBottom" fmla="*/ 36612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3" name="Autoforma 22"/>
            <p:cNvSpPr/>
            <p:nvPr/>
          </p:nvSpPr>
          <p:spPr>
            <a:xfrm>
              <a:off x="4500720" y="5661000"/>
              <a:ext cx="287280" cy="504720"/>
            </a:xfrm>
            <a:custGeom>
              <a:avLst/>
              <a:gdLst>
                <a:gd name="textAreaLeft" fmla="*/ 38520 w 287280"/>
                <a:gd name="textAreaRight" fmla="*/ 248760 w 287280"/>
                <a:gd name="textAreaTop" fmla="*/ 88200 h 504720"/>
                <a:gd name="textAreaBottom" fmla="*/ 36612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4" name="Grupo 7"/>
          <p:cNvGrpSpPr/>
          <p:nvPr/>
        </p:nvGrpSpPr>
        <p:grpSpPr>
          <a:xfrm>
            <a:off x="41400" y="260280"/>
            <a:ext cx="9067680" cy="5256360"/>
            <a:chOff x="41400" y="260280"/>
            <a:chExt cx="9067680" cy="5256360"/>
          </a:xfrm>
        </p:grpSpPr>
        <p:pic>
          <p:nvPicPr>
            <p:cNvPr id="825" name="Imagen 4" descr="deposito invitrogen002"/>
            <p:cNvPicPr/>
            <p:nvPr/>
          </p:nvPicPr>
          <p:blipFill>
            <a:blip r:embed="rId1"/>
            <a:srcRect l="1274" t="64805" r="2091" b="6221"/>
            <a:stretch/>
          </p:blipFill>
          <p:spPr>
            <a:xfrm>
              <a:off x="41400" y="2060640"/>
              <a:ext cx="9067680" cy="345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6" name="Línea 5"/>
            <p:cNvSpPr/>
            <p:nvPr/>
          </p:nvSpPr>
          <p:spPr>
            <a:xfrm>
              <a:off x="4788000" y="260280"/>
              <a:ext cx="0" cy="18734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" name="Cuadro de texto 6"/>
            <p:cNvSpPr/>
            <p:nvPr/>
          </p:nvSpPr>
          <p:spPr>
            <a:xfrm>
              <a:off x="4859280" y="2781360"/>
              <a:ext cx="1511280" cy="703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cil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transferasa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8" name="Picture 2" descr=""/>
          <p:cNvPicPr/>
          <p:nvPr/>
        </p:nvPicPr>
        <p:blipFill>
          <a:blip r:embed="rId1"/>
          <a:stretch/>
        </p:blipFill>
        <p:spPr>
          <a:xfrm>
            <a:off x="33480" y="0"/>
            <a:ext cx="9192960" cy="68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Picture 2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8478720" cy="58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1 Rectángulo"/>
          <p:cNvSpPr/>
          <p:nvPr/>
        </p:nvSpPr>
        <p:spPr>
          <a:xfrm>
            <a:off x="468360" y="333360"/>
            <a:ext cx="8136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FUNCIONES DE LOS LÍPID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Los lípidos constituyen más del 10 % del peso corporal de un individuo adulto norm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y aproximadamente el 40 % de las calorías de la aliment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Es causa de preocupación en la dieta por sus implicancias en enfermedades cardiovasculares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cuando se consumen altos niveles de grasas saturada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1 Rectángulo"/>
          <p:cNvSpPr/>
          <p:nvPr/>
        </p:nvSpPr>
        <p:spPr>
          <a:xfrm>
            <a:off x="108000" y="189000"/>
            <a:ext cx="8785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Son  importantes en la alimentación por las diferentes funciones que cump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1.FUNCIÓN DE RESERVA</a:t>
            </a: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Son la principal reserva energética del organismo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Un gramo de grasa produce por oxidación 9,4 kcal/g, mientras que las proteínas y los glúcidos sólo producen 4,1 kcal/g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2.FUNCIÓN ESTRUCTURAL</a:t>
            </a: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Forman las bicapas lipídicas de las membranas biológica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Recubren órganos y le dan consistencia, o los protegen mecánicamente, como el tejido adiposo de riñón, pies y mano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1 Rectángulo"/>
          <p:cNvSpPr/>
          <p:nvPr/>
        </p:nvSpPr>
        <p:spPr>
          <a:xfrm>
            <a:off x="324000" y="836640"/>
            <a:ext cx="8351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3.FUNCIÓN BIOCATALIZADORA</a:t>
            </a: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Favorecen o facilitan las reacciones que se producen en los seres vivo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Cumplen esta función las vitaminas liposolubles, las hormonas esteroideas y las prostaglandina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4.</a:t>
            </a: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FUNCIÓN REGULADORA</a:t>
            </a: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A partir de ácidos grasos se sintetizan reguladores biológic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como los EICOSANOIDES, considerados hormonas de acción local  y l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FOSFOLÍPIDOS DE INOSITOL que actúan como segundos mensajer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430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Calibri"/>
              </a:rPr>
              <a:t>Funciones de los lípido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05840" cy="3895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Arial Rounded MT Bold"/>
              </a:rPr>
              <a:t>Fuente de energí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Arial Rounded MT Bold"/>
              </a:rPr>
              <a:t>Manto térmic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Arial Rounded MT Bold"/>
              </a:rPr>
              <a:t>Componentes de membranas celula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Arial Rounded MT Bold"/>
              </a:rPr>
              <a:t>Estructura de caracteres sexuales secundari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Rounded MT Bold"/>
              </a:rPr>
              <a:t>Aportan ácidos grasos esenciales y vitamin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Rounded MT Bold"/>
              </a:rPr>
              <a:t>Precursores de varios derivados lipídic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1" name="Imagen 3" descr=""/>
          <p:cNvPicPr/>
          <p:nvPr/>
        </p:nvPicPr>
        <p:blipFill>
          <a:blip r:embed="rId1"/>
          <a:stretch/>
        </p:blipFill>
        <p:spPr>
          <a:xfrm>
            <a:off x="66600" y="189000"/>
            <a:ext cx="87789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 Rounded MT Bold"/>
              </a:rPr>
              <a:t>Clasificación de lípid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3" name="Imagen 3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48836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5" name="Imagen 2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7704000" cy="5006880"/>
          </a:xfrm>
          <a:prstGeom prst="rect">
            <a:avLst/>
          </a:prstGeom>
          <a:ln w="0">
            <a:noFill/>
          </a:ln>
        </p:spPr>
      </p:pic>
      <p:pic>
        <p:nvPicPr>
          <p:cNvPr id="546" name="Imagen 3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00:13:00Z</dcterms:created>
  <dc:creator>Fanny</dc:creator>
  <dc:description/>
  <dc:language>en-US</dc:language>
  <cp:lastModifiedBy>Fanny Zirulnik</cp:lastModifiedBy>
  <dcterms:modified xsi:type="dcterms:W3CDTF">2016-08-30T21:36:44Z</dcterms:modified>
  <cp:revision>79</cp:revision>
  <dc:subject/>
  <dc:title>Presentación de PowerPoint</dc:title>
</cp:coreProperties>
</file>